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wmf" ContentType="image/x-wmf"/>
  <Override PartName="/ppt/media/image18.jpeg" ContentType="image/jpeg"/>
  <Override PartName="/ppt/media/image2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0CB-B853-4C82-B2DE-76027E08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49A-1262-49EE-8A1F-2ECE4892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180-C145-4F01-8C61-847A03E6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31C-A6E2-4CD3-AA73-2A6AFCD1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3AC-E99D-49B3-916A-CCD81DA2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069-B744-4F4B-9CE8-7514E090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EF6-04E9-411E-A6DE-1BEDEBF5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B5F-CAEC-46FF-9127-78BCB8EB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C88-46D4-4C55-9325-F65C9234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E23-E67B-42E2-B107-00298424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0D5-9EB7-4BCB-BEC1-29EF0D9C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97F-E700-4541-95A9-1D65DA9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helmholtz.de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SY,Zeuthen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ay 22-27, 200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nis Perret-Gallix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LAPP/IN2P3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E127-BE54-4A89-B2F2-49F6C6B00D7A}" type="slidenum"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1840" cy="1143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115416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807732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5257800" y="6248520"/>
            <a:ext cx="990720" cy="4730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zon.com/exec/obidos/ASIN/0321278658/extremeprogrammi/104-4372564-3898342?creative=327641&amp;camp=14573&amp;link_code=as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om/imgres?imgurl=http://www.murderoncue.com/Images/Applause.gif&amp;imgrefurl=http://www.murderoncue.com/Events/FamilyFunGameShow.htm&amp;h=319&amp;w=311&amp;sz=19&amp;tbnid=yNntNMx5SOQJ:&amp;tbnh=113&amp;tbnw=110&amp;hl=en&amp;start=3&amp;prev=/images%3Fq%3Dapplause%26hl%3Den%26lr%3D%26sa%3DN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img507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climateprediction.net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76760" cy="453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609480"/>
            <a:ext cx="60199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CAT 2005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52480" y="5029200"/>
            <a:ext cx="5143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cluding Remar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696440" cy="672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3049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ki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next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669960" y="178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"/>
          <p:cNvSpPr/>
          <p:nvPr/>
        </p:nvSpPr>
        <p:spPr>
          <a:xfrm>
            <a:off x="341640" y="1398600"/>
            <a:ext cx="822564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llaborative document writing: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es, meeting report, presentation, draft paper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tex, Word interface (plugin)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ocument indexing for in-text search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llaborative Code writing ?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ggregation (RSS) of web and application data in a structured  wa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tabase .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810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preci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752480"/>
            <a:ext cx="8772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rst time in this workshop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druple/octuple precision is needed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rrect results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ster algorithms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t software implementations are too slow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hardware/software developmen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486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Book"/>
                <a:ea typeface="ＭＳ Ｐゴシック"/>
              </a:rPr>
              <a:t>Simple Example</a:t>
            </a:r>
            <a:br>
              <a:rPr sz="4000"/>
            </a:br>
            <a:r>
              <a:rPr b="1" lang="en-US" sz="2000" spc="-1" strike="noStrike">
                <a:solidFill>
                  <a:srgbClr val="333399"/>
                </a:solidFill>
                <a:latin typeface="Franklin Gothic Book"/>
                <a:ea typeface="ＭＳ Ｐゴシック"/>
              </a:rPr>
              <a:t>by J. Fujimoto (kek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477280" cy="499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333.75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+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(11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 12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– 2) + 5.5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Franklin Gothic Book"/>
                <a:ea typeface="ＭＳ Ｐゴシック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+ a/2b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where a=77617.0, b=33096.0.     (C. Hu, S. Xu and X. Yang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Quadruple precision resul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1.172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039400531786318588349045201801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nalytical result = - 54767/66192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0.82739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05994682136814116509547981370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New Octuple precision library, </a:t>
            </a:r>
            <a:r>
              <a:rPr b="0" lang="en-US" sz="2400" spc="-1" strike="noStrike">
                <a:solidFill>
                  <a:srgbClr val="0066ff"/>
                </a:solidFill>
                <a:latin typeface="Franklin Gothic Book"/>
                <a:ea typeface="ＭＳ Ｐゴシック"/>
              </a:rPr>
              <a:t>H3Lib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f =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0.827396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059946821368141165095479816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  <a:ea typeface="ＭＳ Ｐゴシック"/>
              </a:rPr>
              <a:t>lost bits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= 121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ctual applic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By J. Fujimoto KE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356000" y="1557360"/>
                <a:ext cx="27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52360" y="1844640"/>
            <a:ext cx="3456000" cy="326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2421000"/>
            <a:ext cx="52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 is required in some phase space points due to the Gram determina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020000" y="3933720"/>
                <a:ext cx="720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35280" y="5013360"/>
                <a:ext cx="446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140360" y="5300640"/>
            <a:ext cx="46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ppens in the reduction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9640" y="2637000"/>
                <a:ext cx="3603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39640" y="3860640"/>
                <a:ext cx="4431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4000" y="198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3141720"/>
                <a:ext cx="792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0920" y="5229360"/>
                <a:ext cx="452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6836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515772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11640" y="5661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 phot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4508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838080"/>
            <a:ext cx="48736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 -1.49368718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238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424926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06726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917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6472026946296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.70886323684368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3.04890355892538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9376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26727997246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684600"/>
            <a:ext cx="87138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49368718238777512062307539882045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708877389206553392789958382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585600575199171661642779842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496536042464289674154150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4746346742190735627641191119128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334744118868393382280835719751654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822377826411337874789947823777159E-0002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603893784821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986480454883491878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"/>
          <p:cNvSpPr/>
          <p:nvPr/>
        </p:nvSpPr>
        <p:spPr>
          <a:xfrm>
            <a:off x="1301400" y="457200"/>
            <a:ext cx="2446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"/>
          <p:cNvSpPr/>
          <p:nvPr/>
        </p:nvSpPr>
        <p:spPr>
          <a:xfrm>
            <a:off x="1305360" y="3206880"/>
            <a:ext cx="2905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84820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19640" y="404640"/>
                <a:ext cx="36766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52774087357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31122650935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66296511637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t xml:space="preserve">κ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07644680032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268960" y="2782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low up !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"/>
          <p:cNvSpPr/>
          <p:nvPr/>
        </p:nvSpPr>
        <p:spPr>
          <a:xfrm>
            <a:off x="4479840" y="30211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"/>
          <p:cNvSpPr/>
          <p:nvPr/>
        </p:nvSpPr>
        <p:spPr>
          <a:xfrm>
            <a:off x="7497000" y="632448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. Fujimo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51602" b="0"/>
          <a:stretch/>
        </p:blipFill>
        <p:spPr>
          <a:xfrm>
            <a:off x="1601640" y="920880"/>
            <a:ext cx="5642280" cy="4646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58440" y="34128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inimization algorithms, 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"/>
          <p:cNvSpPr/>
          <p:nvPr/>
        </p:nvSpPr>
        <p:spPr>
          <a:xfrm>
            <a:off x="7166160" y="5486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Gambolatin et al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"/>
          <p:cNvSpPr/>
          <p:nvPr/>
        </p:nvSpPr>
        <p:spPr>
          <a:xfrm>
            <a:off x="3776760" y="2368440"/>
            <a:ext cx="950760" cy="144720"/>
          </a:xfrm>
          <a:prstGeom prst="leftRightArrow">
            <a:avLst>
              <a:gd name="adj1" fmla="val 50000"/>
              <a:gd name="adj2" fmla="val 1307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198756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"/>
          <p:cNvSpPr/>
          <p:nvPr/>
        </p:nvSpPr>
        <p:spPr>
          <a:xfrm>
            <a:off x="5474520" y="27036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"/>
          <p:cNvSpPr/>
          <p:nvPr/>
        </p:nvSpPr>
        <p:spPr>
          <a:xfrm>
            <a:off x="3763800" y="359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Quad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28880" y="120600"/>
            <a:ext cx="47116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"new" dimen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system performa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"/>
          <p:cNvSpPr/>
          <p:nvPr/>
        </p:nvSpPr>
        <p:spPr>
          <a:xfrm>
            <a:off x="4385880" y="164952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  <a:ea typeface="HGPSoeiKakupoptai"/>
              </a:rPr>
              <a:t>CPU bandwidth (Ghz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6675480" y="301788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Memory size (Gbytes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029120" y="1696680"/>
            <a:ext cx="9360" cy="19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38480" y="274320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6576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736640" y="282744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"/>
          <p:cNvSpPr/>
          <p:nvPr/>
        </p:nvSpPr>
        <p:spPr>
          <a:xfrm>
            <a:off x="486000" y="2435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terconnection bandwidth (Ghz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"/>
          <p:cNvSpPr/>
          <p:nvPr/>
        </p:nvSpPr>
        <p:spPr>
          <a:xfrm>
            <a:off x="456120" y="5342040"/>
            <a:ext cx="33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Floating point </a:t>
            </a:r>
            <a:r>
              <a:rPr b="0" lang="en-US" sz="1400" spc="-1" strike="noStrike">
                <a:solidFill>
                  <a:srgbClr val="ff0000"/>
                </a:solidFill>
                <a:latin typeface="Copperplate Gothic Bold"/>
              </a:rPr>
              <a:t>precision</a:t>
            </a: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 (4-32 bytes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437920" y="3657600"/>
            <a:ext cx="16002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"/>
          <p:cNvSpPr/>
          <p:nvPr/>
        </p:nvSpPr>
        <p:spPr>
          <a:xfrm>
            <a:off x="6316200" y="5369040"/>
            <a:ext cx="22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struction size (64 bits)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136600" y="228600"/>
            <a:ext cx="4111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ftware approach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"/>
          <p:cNvSpPr/>
          <p:nvPr/>
        </p:nvSpPr>
        <p:spPr>
          <a:xfrm>
            <a:off x="326520" y="1295280"/>
            <a:ext cx="7733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 precision libraries quadruple/octuple (Hitatchi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uble-double, quad-double (Arprec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-precision lib. (1000 dig and more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rval arithmeti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ct arithmetic (XR, iRRAM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npack double/quad:  30 times slower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62320" y="4122720"/>
            <a:ext cx="4371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dware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704160" y="4876920"/>
            <a:ext cx="77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gh precision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ithmetic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rallel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ocessor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k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23280" y="5257800"/>
            <a:ext cx="5815800" cy="1389240"/>
            <a:chOff x="3023280" y="5257800"/>
            <a:chExt cx="5815800" cy="13892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781680" y="5257800"/>
              <a:ext cx="2057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023280" y="5727600"/>
              <a:ext cx="40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Pulling heavy computations !!!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057400" y="228600"/>
            <a:ext cx="4648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XP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treme Programm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60020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828800"/>
            <a:ext cx="5410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Many short cycles: plan-code-tes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requent releas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Close collaboration: users, programmer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ily meeting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Standardizati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ing conven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752480"/>
            <a:ext cx="2246400" cy="2819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The image “http://www.jroller.com/resources/J2JBlog/pp_hr.jpg” cannot be displayed, because it contains errors."/>
          <p:cNvPicPr/>
          <p:nvPr/>
        </p:nvPicPr>
        <p:blipFill>
          <a:blip r:embed="rId3"/>
          <a:srcRect l="0" t="0" r="0" b="51060"/>
          <a:stretch/>
        </p:blipFill>
        <p:spPr>
          <a:xfrm>
            <a:off x="5638680" y="1752480"/>
            <a:ext cx="3210120" cy="3962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The image “http://www.jroller.com/resources/J2JBlog/pp_hr.jpg” cannot be displayed, because it contains errors."/>
          <p:cNvPicPr/>
          <p:nvPr/>
        </p:nvPicPr>
        <p:blipFill>
          <a:blip r:embed="rId4"/>
          <a:srcRect l="0" t="50943" r="0" b="0"/>
          <a:stretch/>
        </p:blipFill>
        <p:spPr>
          <a:xfrm>
            <a:off x="5638680" y="1752480"/>
            <a:ext cx="3210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95720" y="2719440"/>
            <a:ext cx="314820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63920" y="1429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 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9600" y="2736720"/>
            <a:ext cx="3257640" cy="334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468440" y="2532240"/>
            <a:ext cx="6145200" cy="410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477800" y="2554200"/>
            <a:ext cx="6324840" cy="4208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The image “http://www.usi.edu/commencement/images/applause.jpg” cannot be displayed, because it contains errors."/>
          <p:cNvPicPr/>
          <p:nvPr/>
        </p:nvPicPr>
        <p:blipFill>
          <a:blip r:embed="rId6"/>
          <a:stretch/>
        </p:blipFill>
        <p:spPr>
          <a:xfrm>
            <a:off x="1469880" y="2428920"/>
            <a:ext cx="6248520" cy="44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The image “http://www.elet.polimi.it/upload/bregni/photoart/neworleans/american_applause.jpg” cannot be displayed, because it contains errors."/>
          <p:cNvPicPr/>
          <p:nvPr/>
        </p:nvPicPr>
        <p:blipFill>
          <a:blip r:embed="rId7"/>
          <a:stretch/>
        </p:blipFill>
        <p:spPr>
          <a:xfrm>
            <a:off x="1465200" y="2457360"/>
            <a:ext cx="6248520" cy="416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1846440" y="2540160"/>
            <a:ext cx="5356080" cy="431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14 Applause"/>
          <p:cNvPicPr/>
          <p:nvPr/>
        </p:nvPicPr>
        <p:blipFill>
          <a:blip r:embed="rId9"/>
          <a:stretch/>
        </p:blipFill>
        <p:spPr>
          <a:xfrm>
            <a:off x="1643040" y="2479680"/>
            <a:ext cx="6021360" cy="414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440" y="1035000"/>
            <a:ext cx="7499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oudy Old Style"/>
              </a:rPr>
              <a:t>Institutions: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DESY,Zeuthen,  Bielefeld Univ.,  Helmholtz-Gemeinschaft,  EP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oudy Old Style"/>
              </a:rPr>
              <a:t>Local organizing committee: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Johannes Blümlein, Jochem Fleischer, Wolfgang Friebel, Ulrich Gensch, Matthias Kasemann, Thomas Naumann, </a:t>
            </a:r>
            <a:r>
              <a:rPr b="0" lang="en-US" sz="1600" spc="-1" strike="noStrike">
                <a:solidFill>
                  <a:srgbClr val="ff0000"/>
                </a:solidFill>
                <a:latin typeface="Goudy Old Style"/>
              </a:rPr>
              <a:t>Tord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Goudy Old Style"/>
              </a:rPr>
              <a:t>Riemann (Chair),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Peter Wegner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oudy Old Style"/>
              </a:rPr>
              <a:t>International Advisory Committee memb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Conference Secretaries:</a:t>
            </a:r>
            <a:r>
              <a:rPr b="1" i="1" lang="en-US" sz="1600" spc="-1" strike="noStrike">
                <a:solidFill>
                  <a:srgbClr val="ff0000"/>
                </a:solidFill>
                <a:latin typeface="Goudy Old Style"/>
              </a:rPr>
              <a:t>  Martina Mende, Christiane John, Sabine Miethlin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2920" y="1228320"/>
            <a:ext cx="87408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ore involvement of the community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entury Schoolbook"/>
              </a:rPr>
              <a:t>Discussion of innovative ideas, new approaches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entury Schoolbook"/>
              </a:rPr>
              <a:t>contradictory and hot issues, cross-experiments exchang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ot only at the next ACAT workshop,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ut during the next 18-24 month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tting up of a Wiki ACAT web sit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page for each working group discuss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repository for notes, presentations, papers related to the ACAT topics, code, …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p-to-date reference lis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laborative writing of the History and trends for some topic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urity issues ?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3623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kshop orga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20680" y="461880"/>
            <a:ext cx="690408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klin Gothic Book"/>
              </a:rPr>
              <a:t>Computing Technology and Environment for Physics Research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Parallel and Vector Computing Technologies and Application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istributed Computing: Tools for the GRID,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BOINC, …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ata Fabric and Data Management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Online Monitoring and Control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oftware Engineering: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eXtreme programming, …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Graphic User Interfaces, Common Librari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Communication: web and Wiki’s tool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klin Gothic Book"/>
              </a:rPr>
              <a:t>Data Analysis - Algorithms and Tools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Neural Networks and Other Pattern Recognition Technique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Evolutionary and Genetic Algorithms, </a:t>
            </a:r>
            <a:r>
              <a:rPr b="1" lang="en-US" sz="1400" spc="-1" strike="noStrike">
                <a:solidFill>
                  <a:srgbClr val="0033cc"/>
                </a:solidFill>
                <a:latin typeface="Franklin Gothic Book"/>
              </a:rPr>
              <a:t>Statistical learning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Advanced Data Analysis Environment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Statistical Method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Detector and Accelerator Simulation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Reconstruction Algorithm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klin Gothic Book"/>
              </a:rPr>
              <a:t>Simulations and Computations in Theoretical Physics and Phenomenolog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Automatic Computation Systems: from Processes to Event Generato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ulti-loop Calculations and Higher Order Correction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Multi-dimensional Integration and Event Generator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Intensive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High Precision Numerical Computations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: Algorithms and System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Computer Algebra Techniques and Applications: </a:t>
            </a: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Intellectic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Quantum Computing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Franklin Gothic Book"/>
              </a:rPr>
              <a:t>Lattice Computing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384880" y="2894040"/>
            <a:ext cx="3802680" cy="825480"/>
            <a:chOff x="5384880" y="2894040"/>
            <a:chExt cx="3802680" cy="825480"/>
          </a:xfrm>
        </p:grpSpPr>
        <p:sp>
          <p:nvSpPr>
            <p:cNvPr id="165" name=""/>
            <p:cNvSpPr/>
            <p:nvPr/>
          </p:nvSpPr>
          <p:spPr>
            <a:xfrm>
              <a:off x="6576120" y="2894040"/>
              <a:ext cx="261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ranklin Gothic Book"/>
                </a:rPr>
                <a:t>Topical sessions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ranklin Gothic Book"/>
                </a:rPr>
                <a:t>Round-Tables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84880" y="2905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81080" y="152280"/>
            <a:ext cx="4800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200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681120" y="4954680"/>
            <a:ext cx="76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andidates for backup and next-to-next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witzerland( Zurich), US, France (Annecy), Norway,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"/>
          <p:cNvSpPr/>
          <p:nvPr/>
        </p:nvSpPr>
        <p:spPr>
          <a:xfrm>
            <a:off x="574560" y="21114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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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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ematica1"/>
                <a:ea typeface="Mathematica1"/>
              </a:rPr>
              <a:t>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"/>
          <p:cNvSpPr/>
          <p:nvPr/>
        </p:nvSpPr>
        <p:spPr>
          <a:xfrm>
            <a:off x="712800" y="2131920"/>
            <a:ext cx="7711920" cy="253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e Netherlands -  Amsterdam - NIKHE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pril 2007,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hair of the organizing committe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anklin Gothic Book"/>
              </a:rPr>
              <a:t>Jos Vermasere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14600" y="5335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e you 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2286000"/>
            <a:ext cx="58676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CAT 07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3273480" y="5408640"/>
            <a:ext cx="36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Franklin Gothic Book"/>
              </a:rPr>
              <a:t>Amsterdam April 2007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696680"/>
            <a:ext cx="8458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IHENP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“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rtificial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ntelligence in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H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igh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E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nergy and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N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uclear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hysic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yon 1990, la Londes-Les-Maures 1992, Oberammergau 1993, Pisa 1995, Lausanne 1996, Heraklion 1999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CA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“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dvanced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C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omputing and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nalysis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T</a:t>
            </a: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echniques in Physics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icago 2000, Moscow 2002, Tsukuba 2003, Zeuthen 2005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: Jan. 92, first presentation to the HEP community (TBL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ymbolic/automatic calculations: building a communit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eural networks, genetic algorithm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ert system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ag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allel comput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nalysis tools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81080" y="152280"/>
            <a:ext cx="4776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Short His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04880" y="3505320"/>
            <a:ext cx="4978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05:  10th of the ser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81080" y="152280"/>
            <a:ext cx="4038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Raison d'être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2280" y="2590920"/>
            <a:ext cx="3886200" cy="341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75920" y="4854600"/>
            <a:ext cx="3441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Putting thinking, “intelligence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into System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"/>
          <p:cNvSpPr/>
          <p:nvPr/>
        </p:nvSpPr>
        <p:spPr>
          <a:xfrm>
            <a:off x="1363680" y="1528920"/>
            <a:ext cx="30762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modern research relies 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the virtuous triang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76600" y="1421640"/>
            <a:ext cx="3695400" cy="3139200"/>
            <a:chOff x="4476600" y="1421640"/>
            <a:chExt cx="3695400" cy="3139200"/>
          </a:xfrm>
        </p:grpSpPr>
        <p:sp>
          <p:nvSpPr>
            <p:cNvPr id="66" name=""/>
            <p:cNvSpPr/>
            <p:nvPr/>
          </p:nvSpPr>
          <p:spPr>
            <a:xfrm rot="18045600">
              <a:off x="5707800" y="3185280"/>
              <a:ext cx="486000" cy="1519200"/>
            </a:xfrm>
            <a:prstGeom prst="upDownArrow">
              <a:avLst>
                <a:gd name="adj1" fmla="val 50000"/>
                <a:gd name="adj2" fmla="val 622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476600" y="1421640"/>
              <a:ext cx="3695400" cy="3139200"/>
              <a:chOff x="4476600" y="1421640"/>
              <a:chExt cx="3695400" cy="313920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4476600" y="1421640"/>
                <a:ext cx="3695400" cy="3139200"/>
                <a:chOff x="4476600" y="1421640"/>
                <a:chExt cx="3695400" cy="313920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4476600" y="1421640"/>
                  <a:ext cx="3695400" cy="3139200"/>
                  <a:chOff x="4476600" y="1421640"/>
                  <a:chExt cx="3695400" cy="3139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6648480" y="1459080"/>
                    <a:ext cx="12254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Computing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Franklin Gothic Book"/>
                    </a:endParaRPr>
                  </a:p>
                </p:txBody>
              </p: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4476600" y="1421640"/>
                    <a:ext cx="3695400" cy="3139200"/>
                    <a:chOff x="4476600" y="1421640"/>
                    <a:chExt cx="3695400" cy="313920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476600" y="2922480"/>
                      <a:ext cx="827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p:txBody>
                </p:sp>
                <p:grpSp>
                  <p:nvGrpSpPr>
                    <p:cNvPr id="73" name=""/>
                    <p:cNvGrpSpPr/>
                    <p:nvPr/>
                  </p:nvGrpSpPr>
                  <p:grpSpPr>
                    <a:xfrm>
                      <a:off x="5223600" y="1421640"/>
                      <a:ext cx="2948400" cy="3139200"/>
                      <a:chOff x="5223600" y="1421640"/>
                      <a:chExt cx="2948400" cy="3139200"/>
                    </a:xfrm>
                  </p:grpSpPr>
                  <p:pic>
                    <p:nvPicPr>
                      <p:cNvPr id="74" name="" descr="Real impossible triangle">
                        <a:hlinkClick r:id="rId2"/>
                      </p:cNvPr>
                      <p:cNvPicPr/>
                      <p:nvPr/>
                    </p:nvPicPr>
                    <p:blipFill>
                      <a:blip r:embed="rId3">
                        <a:lum contrast="18000"/>
                      </a:blip>
                      <a:stretch/>
                    </p:blipFill>
                    <p:spPr>
                      <a:xfrm rot="1734000">
                        <a:off x="5605200" y="1787400"/>
                        <a:ext cx="2057400" cy="210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6753960" y="4192560"/>
                        <a:ext cx="14180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Franklin Gothic Book"/>
                          </a:rPr>
                          <a:t>Experiment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6" name=""/>
                <p:cNvSpPr/>
                <p:nvPr/>
              </p:nvSpPr>
              <p:spPr>
                <a:xfrm rot="10800000">
                  <a:off x="7368840" y="2165040"/>
                  <a:ext cx="485640" cy="1485720"/>
                </a:xfrm>
                <a:prstGeom prst="upDownArrow">
                  <a:avLst>
                    <a:gd name="adj1" fmla="val 50000"/>
                    <a:gd name="adj2" fmla="val 60903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 rot="13919400">
                <a:off x="5693400" y="1403640"/>
                <a:ext cx="485640" cy="1490760"/>
              </a:xfrm>
              <a:prstGeom prst="upDownArrow">
                <a:avLst>
                  <a:gd name="adj1" fmla="val 50000"/>
                  <a:gd name="adj2" fmla="val 6110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77960" y="2616120"/>
            <a:ext cx="7432560" cy="27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eat plenary sessions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quantum computer, symbolic languages, Neural nets, Berlin physics history, DESY research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 quality presentations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High precision computation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topic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contacts between participant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collaborations initiate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ortant Proceedings in prepar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81080" y="152280"/>
            <a:ext cx="4038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200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"Grand Cru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2 years before the start of LHC,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re are the major question mark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ere should we concentrate our effor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LC, … Are we ready for globalization of research: Technology ? Sociology 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81080" y="152280"/>
            <a:ext cx="4038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AT 200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lity Che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INC”: Global comput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“WikiWay”: Better, simpler communic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 precision floating point comput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P: eXtreme Programm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81080" y="15228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lat though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Emerging" Topics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2514600" cy="227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53480" y="1676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Berkeley Open Infrastructure for Network Computing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6" name="" descr="The image “http://www.boincsynergy.com/stats/graph-project.php?project=tot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276720" y="21337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400" y="2243160"/>
            <a:ext cx="3367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Free” powe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verage: 1.5 Gflops system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50 Tflop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½ for 80% time 100 Tflop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op 500 N.1- Blue Gene 70 TFlop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"/>
          <p:cNvSpPr/>
          <p:nvPr/>
        </p:nvSpPr>
        <p:spPr>
          <a:xfrm>
            <a:off x="182160" y="552132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Very important outrea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"/>
          <p:cNvSpPr/>
          <p:nvPr/>
        </p:nvSpPr>
        <p:spPr>
          <a:xfrm>
            <a:off x="252360" y="3914640"/>
            <a:ext cx="741960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Schoolbook"/>
                <a:hlinkClick r:id="rId3"/>
              </a:rPr>
              <a:t>Climateprediction.net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study climate change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Einstein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arch for gravitational signals coming from pulsar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HC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mprove the design of the CERN LHC particle accelerator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redictor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nvestigate protein-related diseases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TI@home: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Look for radio evidence of extraterrestrial life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 web site is “self ”-updated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site becomes a cooperative developing tool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timulate the discuss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uilding a commun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ikipedia…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981080" y="152280"/>
            <a:ext cx="5562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new communication concept: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iki w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20206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5-05-27T09:37:4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