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2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52E-997E-49E6-9B2C-55F7ABF9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4E2-2890-4E0F-B961-E1E4A78C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9E2-A59C-47F0-AA67-7C382D1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8C8-16AE-4D5A-8BBB-C6C0ED7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91B-12D2-46C3-A558-5EC1F5E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2C9-6232-47B1-BAEB-186F45F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EFD-775E-4DDE-908B-9298278A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CBF-C393-4956-B1F6-AA48225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AFB-2EF7-489B-99E0-E281A30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5EE-D12F-4E53-9521-EF38382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E54-E7D9-4E9A-AEEA-4998FDE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208-FE3A-4407-91F1-E8F2F98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helmholtz.de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SY,Zeuthen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ay 22-27, 200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nis Perret-Gallix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APP/IN2P3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4577-497C-4151-BA46-EE1C538F86A5}" type="slidenum"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184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115416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07732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5257800" y="6248520"/>
            <a:ext cx="990720" cy="4730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0321278658/extremeprogrammi/104-4372564-3898342?creative=327641&amp;camp=14573&amp;link_code=as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om/imgres?imgurl=http://www.murderoncue.com/Images/Applause.gif&amp;imgrefurl=http://www.murderoncue.com/Events/FamilyFunGameShow.htm&amp;h=319&amp;w=311&amp;sz=19&amp;tbnid=yNntNMx5SOQJ:&amp;tbnh=113&amp;tbnw=110&amp;hl=en&amp;start=3&amp;prev=/images%3Fq%3Dapplause%26hl%3Den%26lr%3D%26sa%3DN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img507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climateprediction.net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76760" cy="453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609480"/>
            <a:ext cx="6019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AT 2005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52480" y="5029200"/>
            <a:ext cx="514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cluding Rema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696440" cy="672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3049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ki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next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178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"/>
          <p:cNvSpPr/>
          <p:nvPr/>
        </p:nvSpPr>
        <p:spPr>
          <a:xfrm>
            <a:off x="341640" y="1398600"/>
            <a:ext cx="8225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llaborative document writing: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es, meeting report, presentation, draft pap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tex, Word interface (plugin)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cument indexing for in-text search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llaborative Code writing ?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ggregation (RSS) of web and application data in a structured  wa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tabase 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preci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752480"/>
            <a:ext cx="8772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rst time in this workshop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druple/octuple precision is needed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rect result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ster algorithm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t software implementations are too slow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hardware/software developmen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486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Book"/>
                <a:ea typeface="ＭＳ Ｐゴシック"/>
              </a:rPr>
              <a:t>Simple Example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Franklin Gothic Book"/>
                <a:ea typeface="ＭＳ Ｐゴシック"/>
              </a:rPr>
              <a:t>by J. Fujimoto (kek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477280" cy="499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333.75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+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(11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 12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– 2) + 5.5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+ a/2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where a=77617.0, b=33096.0.     (C. Hu, S. Xu and X. Yang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Quadruple precision resul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1.172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39400531786318588349045201801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nalytical result = - 54767/6619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0.82739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599468213681411650954798137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New Octuple precision library, </a:t>
            </a:r>
            <a:r>
              <a:rPr b="0" lang="en-US" sz="2400" spc="-1" strike="noStrike">
                <a:solidFill>
                  <a:srgbClr val="0066ff"/>
                </a:solidFill>
                <a:latin typeface="Franklin Gothic Book"/>
                <a:ea typeface="ＭＳ Ｐゴシック"/>
              </a:rPr>
              <a:t>H3Lib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0.82739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59946821368141165095479816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lost bits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= 121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ctual applic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By J. Fujimoto K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356000" y="1557360"/>
                <a:ext cx="27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456000" cy="326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2421000"/>
            <a:ext cx="52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is required in some phase space points due to the Gram determina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20000" y="393372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35280" y="501336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140360" y="530064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ppens in the reduction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9640" y="263700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39640" y="3860640"/>
                <a:ext cx="4431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4000" y="19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3141720"/>
                <a:ext cx="79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5229360"/>
                <a:ext cx="452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6836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515772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11640" y="5661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 phot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50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838080"/>
            <a:ext cx="4873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 -1.49368718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23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424926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06726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917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6472026946296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.70886323684368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3.04890355892538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9376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26727997246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684600"/>
            <a:ext cx="87138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9368718238777512062307539882045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708877389206553392789958382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585600575199171661642779842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49653604246428967415415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474634674219073562764119111912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34744118868393382280835719751654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822377826411337874789947823777159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603893784821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8648045488349187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"/>
          <p:cNvSpPr/>
          <p:nvPr/>
        </p:nvSpPr>
        <p:spPr>
          <a:xfrm>
            <a:off x="1301400" y="457200"/>
            <a:ext cx="2446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"/>
          <p:cNvSpPr/>
          <p:nvPr/>
        </p:nvSpPr>
        <p:spPr>
          <a:xfrm>
            <a:off x="1305360" y="3206880"/>
            <a:ext cx="29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84820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19640" y="404640"/>
                <a:ext cx="36766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52774087357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31122650935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66296511637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t xml:space="preserve">κ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07644680032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268960" y="2782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low up !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"/>
          <p:cNvSpPr/>
          <p:nvPr/>
        </p:nvSpPr>
        <p:spPr>
          <a:xfrm>
            <a:off x="4479840" y="30211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"/>
          <p:cNvSpPr/>
          <p:nvPr/>
        </p:nvSpPr>
        <p:spPr>
          <a:xfrm>
            <a:off x="7497000" y="63244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. Fujimo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51602" b="0"/>
          <a:stretch/>
        </p:blipFill>
        <p:spPr>
          <a:xfrm>
            <a:off x="1601640" y="920880"/>
            <a:ext cx="5642280" cy="4646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58440" y="34128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nimization algorithms, 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7166160" y="5486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ambolatin et al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76760" y="2368440"/>
            <a:ext cx="950760" cy="144720"/>
          </a:xfrm>
          <a:prstGeom prst="leftRightArrow">
            <a:avLst>
              <a:gd name="adj1" fmla="val 50000"/>
              <a:gd name="adj2" fmla="val 1307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19875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5474520" y="27036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3763800" y="35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Quad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28880" y="120600"/>
            <a:ext cx="47116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new" dimen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system perform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4385880" y="164952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HGPSoeiKakupoptai"/>
              </a:rPr>
              <a:t>CPU bandwidth (Ghz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6675480" y="30178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Memory size (Gbytes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029120" y="1696680"/>
            <a:ext cx="9360" cy="19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38480" y="274320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657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36640" y="282744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486000" y="2435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terconnection bandwidth (Ghz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>
            <a:off x="456120" y="5342040"/>
            <a:ext cx="33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Floating point </a:t>
            </a:r>
            <a:r>
              <a:rPr b="0" lang="en-US" sz="1400" spc="-1" strike="noStrike">
                <a:solidFill>
                  <a:srgbClr val="ff0000"/>
                </a:solidFill>
                <a:latin typeface="Copperplate Gothic Bold"/>
              </a:rPr>
              <a:t>precision</a:t>
            </a: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 (4-32 bytes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37920" y="3657600"/>
            <a:ext cx="16002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6316200" y="5369040"/>
            <a:ext cx="22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struction size (64 bits)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136600" y="228600"/>
            <a:ext cx="4111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ftware approac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326520" y="1295280"/>
            <a:ext cx="7733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precision libraries quadruple/octuple (Hitatchi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-double, quad-double (Arpre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-precision lib. (1000 dig and more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val arithmeti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ct arithmetic (XR, iRRAM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npack double/quad:  30 times slow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62320" y="4122720"/>
            <a:ext cx="437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ware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704160" y="4876920"/>
            <a:ext cx="77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gh precisio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thmetic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rallel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ocesso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k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23280" y="5257800"/>
            <a:ext cx="5815800" cy="1389240"/>
            <a:chOff x="3023280" y="5257800"/>
            <a:chExt cx="5815800" cy="13892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781680" y="5257800"/>
              <a:ext cx="2057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023280" y="5727600"/>
              <a:ext cx="40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Pulling heavy computations !!!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057400" y="22860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P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treme Programm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828800"/>
            <a:ext cx="5410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Many short cycles: plan-code-tes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equent releas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Close collaboration: users, programmer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ily meeting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Standardiz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ing conven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752480"/>
            <a:ext cx="2246400" cy="281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The image “http://www.jroller.com/resources/J2JBlog/pp_hr.jpg” cannot be displayed, because it contains errors."/>
          <p:cNvPicPr/>
          <p:nvPr/>
        </p:nvPicPr>
        <p:blipFill>
          <a:blip r:embed="rId3"/>
          <a:srcRect l="0" t="0" r="0" b="51060"/>
          <a:stretch/>
        </p:blipFill>
        <p:spPr>
          <a:xfrm>
            <a:off x="5638680" y="1752480"/>
            <a:ext cx="3210120" cy="3962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The image “http://www.jroller.com/resources/J2JBlog/pp_hr.jpg” cannot be displayed, because it contains errors."/>
          <p:cNvPicPr/>
          <p:nvPr/>
        </p:nvPicPr>
        <p:blipFill>
          <a:blip r:embed="rId4"/>
          <a:srcRect l="0" t="50943" r="0" b="0"/>
          <a:stretch/>
        </p:blipFill>
        <p:spPr>
          <a:xfrm>
            <a:off x="5638680" y="1752480"/>
            <a:ext cx="3210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95720" y="2719440"/>
            <a:ext cx="314820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63920" y="1429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9600" y="2736720"/>
            <a:ext cx="3257640" cy="334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68440" y="2532240"/>
            <a:ext cx="6145200" cy="41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477800" y="2554200"/>
            <a:ext cx="6324840" cy="420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The image “http://www.usi.edu/commencement/images/applause.jpg” cannot be displayed, because it contains errors."/>
          <p:cNvPicPr/>
          <p:nvPr/>
        </p:nvPicPr>
        <p:blipFill>
          <a:blip r:embed="rId6"/>
          <a:stretch/>
        </p:blipFill>
        <p:spPr>
          <a:xfrm>
            <a:off x="1469880" y="2428920"/>
            <a:ext cx="624852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The image “http://www.elet.polimi.it/upload/bregni/photoart/neworleans/american_applause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1465200" y="2457360"/>
            <a:ext cx="6248520" cy="416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1846440" y="2540160"/>
            <a:ext cx="5356080" cy="43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14 Applause"/>
          <p:cNvPicPr/>
          <p:nvPr/>
        </p:nvPicPr>
        <p:blipFill>
          <a:blip r:embed="rId9"/>
          <a:stretch/>
        </p:blipFill>
        <p:spPr>
          <a:xfrm>
            <a:off x="1643040" y="2479680"/>
            <a:ext cx="6021360" cy="414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440" y="1035000"/>
            <a:ext cx="7499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Institutions: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DESY,Zeuthen,  Bielefeld Univ.,  Helmholtz-Gemeinschaft,  E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Local organizing committee: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Johannes Blümlein, Jochem Fleischer, Wolfgang Friebel, Ulrich Gensch, Matthias Kasemann, Thomas Naumann, </a:t>
            </a:r>
            <a:r>
              <a:rPr b="0" lang="en-US" sz="1600" spc="-1" strike="noStrike">
                <a:solidFill>
                  <a:srgbClr val="ff0000"/>
                </a:solidFill>
                <a:latin typeface="Goudy Old Style"/>
              </a:rPr>
              <a:t>Tord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Goudy Old Style"/>
              </a:rPr>
              <a:t>Riemann (Chair),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Peter Wegn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International Advisory Committee memb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Conference Secretaries:</a:t>
            </a:r>
            <a:r>
              <a:rPr b="1" i="1" lang="en-US" sz="1600" spc="-1" strike="noStrike">
                <a:solidFill>
                  <a:srgbClr val="ff0000"/>
                </a:solidFill>
                <a:latin typeface="Goudy Old Style"/>
              </a:rPr>
              <a:t>  Martina Mende, Christiane John, Sabine Miethl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2920" y="1228320"/>
            <a:ext cx="87408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re involvement of the community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Discussion of innovative ideas, new approaches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contradictory and hot issues, cross-experiments exchang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ot only at the next ACAT workshop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ut during the next 18-24 month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tting up of a Wiki ACAT web sit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age for each working group discuss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repository for notes, presentations, papers related to the ACAT topics, code,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p-to-date reference li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laborative writing of the History and trends for some topic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urity issues ?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3623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shop orga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20680" y="461880"/>
            <a:ext cx="690408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Computing Technology and Environment for Physics Research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arallel and Vector Computing Technologies and Applica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tributed Computing: Tools for the GRID,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BOINC, …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ata Fabric and Data Management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Online Monitoring and Control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ftware Engineering: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eXtreme programming, …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raphic User Interfaces, Common Librari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Communication: web and Wiki’s tool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Data Analysis - Algorithms and Tools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eural Networks and Other Pattern Recognition Techniqu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volutionary and Genetic Algorithms, </a:t>
            </a:r>
            <a:r>
              <a:rPr b="1" lang="en-US" sz="1400" spc="-1" strike="noStrike">
                <a:solidFill>
                  <a:srgbClr val="0033cc"/>
                </a:solidFill>
                <a:latin typeface="Franklin Gothic Book"/>
              </a:rPr>
              <a:t>Statistical learn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Advanced Data Analysis Environment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tatistical Method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tector and Accelerator Simula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Reconstruction Algorithm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Simulations and Computations in Theoretical Physics and Phenomenolog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Automatic Computation Systems: from Processes to Event Generato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ulti-loop Calculations and Higher Order Correc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ulti-dimensional Integration and Event Generato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Intensive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High Precision Numerical Computations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: Algorithms and System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Computer Algebra Techniques and Applications: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Intellectic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Quantum Comput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Lattice Comput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84880" y="2894040"/>
            <a:ext cx="3802680" cy="825480"/>
            <a:chOff x="5384880" y="2894040"/>
            <a:chExt cx="3802680" cy="825480"/>
          </a:xfrm>
        </p:grpSpPr>
        <p:sp>
          <p:nvSpPr>
            <p:cNvPr id="165" name=""/>
            <p:cNvSpPr/>
            <p:nvPr/>
          </p:nvSpPr>
          <p:spPr>
            <a:xfrm>
              <a:off x="6576120" y="2894040"/>
              <a:ext cx="261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Topical sessions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Round-Tables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4880" y="2905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1080" y="152280"/>
            <a:ext cx="4800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681120" y="4954680"/>
            <a:ext cx="76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ndidates for backup and next-to-next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witzerland( Zurich), US, France (Annecy), Norway,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574560" y="21114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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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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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"/>
          <p:cNvSpPr/>
          <p:nvPr/>
        </p:nvSpPr>
        <p:spPr>
          <a:xfrm>
            <a:off x="712800" y="2131920"/>
            <a:ext cx="7711920" cy="253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Netherlands -  Amsterdam - NIKHE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pril 2007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hair of the organizing committe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Jos Vermasere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14600" y="5335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e you 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2286000"/>
            <a:ext cx="58676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AT 07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3273480" y="540864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Franklin Gothic Book"/>
              </a:rPr>
              <a:t>Amsterdam April 2007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696680"/>
            <a:ext cx="8458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IHEN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“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rtificial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telligence in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igh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ergy an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uclear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hysic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yon 1990, la Londes-Les-Maures 1992, Oberammergau 1993, Pisa 1995, Lausanne 1996, Heraklion 199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CA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“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dvance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omputing an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alysis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echniques in Physic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icago 2000, Moscow 2002, Tsukuba 2003, Zeuthen 200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: Jan. 92, first presentation to the HEP community (TBL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ymbolic/automatic calculations: building a communit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eural networks, genetic algorithm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ert syste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ag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llel comput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nalysis tools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81080" y="152280"/>
            <a:ext cx="4776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Short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04880" y="3505320"/>
            <a:ext cx="4978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05:  10th of the ser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Raison d'être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2280" y="2590920"/>
            <a:ext cx="3886200" cy="341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75920" y="4854600"/>
            <a:ext cx="3441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Putting thinking, “intelligence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into System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"/>
          <p:cNvSpPr/>
          <p:nvPr/>
        </p:nvSpPr>
        <p:spPr>
          <a:xfrm>
            <a:off x="1363680" y="1528920"/>
            <a:ext cx="3076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modern research relies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the virtuous triang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76600" y="1421640"/>
            <a:ext cx="3695400" cy="3139200"/>
            <a:chOff x="4476600" y="1421640"/>
            <a:chExt cx="3695400" cy="3139200"/>
          </a:xfrm>
        </p:grpSpPr>
        <p:sp>
          <p:nvSpPr>
            <p:cNvPr id="66" name=""/>
            <p:cNvSpPr/>
            <p:nvPr/>
          </p:nvSpPr>
          <p:spPr>
            <a:xfrm rot="18045600">
              <a:off x="5707800" y="3185280"/>
              <a:ext cx="486000" cy="1519200"/>
            </a:xfrm>
            <a:prstGeom prst="upDownArrow">
              <a:avLst>
                <a:gd name="adj1" fmla="val 50000"/>
                <a:gd name="adj2" fmla="val 622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476600" y="1421640"/>
              <a:ext cx="3695400" cy="3139200"/>
              <a:chOff x="4476600" y="1421640"/>
              <a:chExt cx="3695400" cy="313920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4476600" y="1421640"/>
                <a:ext cx="3695400" cy="3139200"/>
                <a:chOff x="4476600" y="1421640"/>
                <a:chExt cx="3695400" cy="31392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4476600" y="1421640"/>
                  <a:ext cx="3695400" cy="3139200"/>
                  <a:chOff x="4476600" y="1421640"/>
                  <a:chExt cx="3695400" cy="3139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648480" y="1459080"/>
                    <a:ext cx="12254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Computing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Franklin Gothic Book"/>
                    </a:endParaRPr>
                  </a:p>
                </p:txBody>
              </p: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4476600" y="1421640"/>
                    <a:ext cx="3695400" cy="3139200"/>
                    <a:chOff x="4476600" y="1421640"/>
                    <a:chExt cx="3695400" cy="31392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476600" y="2922480"/>
                      <a:ext cx="827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p:txBody>
                </p:sp>
                <p:grpSp>
                  <p:nvGrpSpPr>
                    <p:cNvPr id="73" name=""/>
                    <p:cNvGrpSpPr/>
                    <p:nvPr/>
                  </p:nvGrpSpPr>
                  <p:grpSpPr>
                    <a:xfrm>
                      <a:off x="5223600" y="1421640"/>
                      <a:ext cx="2948400" cy="3139200"/>
                      <a:chOff x="5223600" y="1421640"/>
                      <a:chExt cx="2948400" cy="3139200"/>
                    </a:xfrm>
                  </p:grpSpPr>
                  <p:pic>
                    <p:nvPicPr>
                      <p:cNvPr id="74" name="" descr="Real impossible triangle">
                        <a:hlinkClick r:id="rId2"/>
                      </p:cNvPr>
                      <p:cNvPicPr/>
                      <p:nvPr/>
                    </p:nvPicPr>
                    <p:blipFill>
                      <a:blip r:embed="rId3">
                        <a:lum contrast="18000"/>
                      </a:blip>
                      <a:stretch/>
                    </p:blipFill>
                    <p:spPr>
                      <a:xfrm rot="1734000">
                        <a:off x="5605200" y="1787400"/>
                        <a:ext cx="2057400" cy="210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753960" y="4192560"/>
                        <a:ext cx="14180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Franklin Gothic Book"/>
                          </a:rPr>
                          <a:t>Experiment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6" name=""/>
                <p:cNvSpPr/>
                <p:nvPr/>
              </p:nvSpPr>
              <p:spPr>
                <a:xfrm rot="10800000">
                  <a:off x="7368840" y="2165040"/>
                  <a:ext cx="485640" cy="1485720"/>
                </a:xfrm>
                <a:prstGeom prst="upDownArrow">
                  <a:avLst>
                    <a:gd name="adj1" fmla="val 50000"/>
                    <a:gd name="adj2" fmla="val 60903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 rot="13919400">
                <a:off x="5693400" y="1403640"/>
                <a:ext cx="485640" cy="1490760"/>
              </a:xfrm>
              <a:prstGeom prst="upDownArrow">
                <a:avLst>
                  <a:gd name="adj1" fmla="val 50000"/>
                  <a:gd name="adj2" fmla="val 611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77960" y="2616120"/>
            <a:ext cx="7432560" cy="27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eat plenary sessions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quantum computer, symbolic languages, Neural nets, Berlin physics history, DESY researc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quality presentations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High precision computation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topic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contacts between participant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collaborations initiat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ortant Proceedings in prepa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81080" y="1522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Grand Cru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 years before the start of LHC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are the major question mark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should we concentrate our effor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LC, … Are we ready for globalization of research: Technology ? Sociology 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81080" y="1522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lity Che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INC”: Global comput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“WikiWay”: Better, simpler communi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precision floating point comput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P: eXtreme Programm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1080" y="15228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lat though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Emerging" Topics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2514600" cy="227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53480" y="1676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erkeley Open Infrastructure for Network Comput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6" name="" descr="The image “http://www.boincsynergy.com/stats/graph-project.php?project=tot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276720" y="21337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400" y="2243160"/>
            <a:ext cx="3367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Free” pow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: 1.5 Gflops system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50 Tflop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½ for 80% time 100 Tflo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p 500 N.1- Blue Gene 70 TFlo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"/>
          <p:cNvSpPr/>
          <p:nvPr/>
        </p:nvSpPr>
        <p:spPr>
          <a:xfrm>
            <a:off x="182160" y="55213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Very important outrea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"/>
          <p:cNvSpPr/>
          <p:nvPr/>
        </p:nvSpPr>
        <p:spPr>
          <a:xfrm>
            <a:off x="252360" y="3914640"/>
            <a:ext cx="741960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Schoolbook"/>
                <a:hlinkClick r:id="rId3"/>
              </a:rPr>
              <a:t>Climateprediction.ne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study climate change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instein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arch for gravitational signals coming from pulsar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HC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mprove the design of the CERN LHC particle accelerator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edictor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vestigate protein-related diseas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TI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ook for radio evidence of extraterrestrial life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 web site is “self ”-updated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ite becomes a cooperative developing tool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imulate the discuss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uilding a commun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ikipedia…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81080" y="152280"/>
            <a:ext cx="5562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new communication concept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iki w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20206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5-05-27T09:37:4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