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3780E-2DB4-4F7B-A9C3-827E8465E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84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84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320" y="36360"/>
            <a:ext cx="70848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88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6840" y="121932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88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6840" y="380556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36360"/>
            <a:ext cx="70848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6720" y="380556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6720" y="121932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80556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36360"/>
            <a:ext cx="7084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37840" y="65203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Grid School, Han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9000" y="1523880"/>
            <a:ext cx="54864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Application development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Times New Roman"/>
              </a:rPr>
              <a:t>Hands-on</a:t>
            </a:r>
            <a:br>
              <a:rPr sz="4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260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66680" y="3124080"/>
            <a:ext cx="2022480" cy="2212920"/>
            <a:chOff x="1066680" y="3124080"/>
            <a:chExt cx="2022480" cy="2212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066680" y="3124080"/>
              <a:ext cx="202248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133640" y="5172120"/>
              <a:ext cx="1752480" cy="16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BLAS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3809880"/>
            <a:ext cx="1816200" cy="1951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ST (basic local alignment and search tool) is a biological program that compares the alignment between a sequence and a database, with a set of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utput of the blast is a flat file of the different sequences that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t a database: formatdb -i &lt;file&gt; -p F -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 the blast: blastall -p blastn -i &lt;sequence_file&gt; -d &lt;database_file&gt; -o res.out -b 1 -v 1 -e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o do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al: see how you can deploy an application, depending on the available gri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have to think about how to launch a blast on the g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need: a sequence file, a database, a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are given 3 diffferent scenari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- use only the UI and the CE to deploy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- use the 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- use high level services (AMG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each one, present a solution, and the advantages and misadvan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 don't need to implement anything for the moment, just present a workflow describing how your application will 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3880"/>
            <a:ext cx="632448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two text files on the Gr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submit a job that retrieves these files, read them and concatenate them back to a new file, store this result file back to the grid and replicat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 job is finished, retrieve the file from the SE on the 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buClr>
                <a:srgbClr val="ffcc00"/>
              </a:buClr>
              <a:buSzPct val="110000"/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 and unregister all the files and replicas cr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901"/>
              </a:spcBef>
              <a:spcAft>
                <a:spcPts val="1125"/>
              </a:spcAft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b</dc:creator>
  <dc:description/>
  <dc:language>en-US</dc:language>
  <cp:lastModifiedBy>Jean Salzemann</cp:lastModifiedBy>
  <cp:revision>0</cp:revision>
  <dc:subject/>
  <dc:title>The EGEE project</dc:title>
</cp:coreProperties>
</file>