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4839B-2F1E-49AF-B7D2-53A9CB3613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80556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80556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720" y="380556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880" y="121932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840" y="121932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80556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880" y="380556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840" y="380556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320" y="36360"/>
            <a:ext cx="708480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80556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6720" y="380556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0556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80556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80556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6720" y="380556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880" y="121932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6840" y="121932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80556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880" y="380556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6840" y="380556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36360"/>
            <a:ext cx="708480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80556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6720" y="380556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80556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3152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60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601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371600" cy="878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37840" y="652032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CGrid School, Han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1960" y="3124080"/>
            <a:ext cx="6242040" cy="342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2819160" cy="1803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2844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60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601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658332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cc00"/>
                </a:solidFill>
                <a:latin typeface="Arial"/>
              </a:rPr>
              <a:t>EGEE is a project funded by the European Union under contract IST-2003-5088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2286000"/>
            <a:ext cx="3276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9000" y="1523880"/>
            <a:ext cx="548640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Times New Roman"/>
              </a:rPr>
              <a:t>Application development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Times New Roman"/>
              </a:rPr>
              <a:t>Hands-on</a:t>
            </a:r>
            <a:br>
              <a:rPr sz="4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1" lang="en-US" sz="1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2600" y="20574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ww.eu-egee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66680" y="3124080"/>
            <a:ext cx="2022480" cy="2212920"/>
            <a:chOff x="1066680" y="3124080"/>
            <a:chExt cx="2022480" cy="221292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1066680" y="3124080"/>
              <a:ext cx="202248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133640" y="5172120"/>
              <a:ext cx="1752480" cy="16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Arial"/>
              </a:rPr>
              <a:t>BLAS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00800" y="3809880"/>
            <a:ext cx="1816200" cy="1951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ST (basic local alignment and search tool) is a biological program that compares the alignment between a sequence and a database, with a set of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utput of the blast is a flat file of the different sequences that m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at a database: formatdb -i &lt;file&gt; -p F -o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nch the blast: blastall -p blastn -i &lt;sequence_file&gt; -d &lt;database_file&gt; -o res.out -b 1 -v 1 -e 0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Arial"/>
              </a:rPr>
              <a:t>To do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al: see how you can deploy an application, depending on the available gri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have to think about how to launch a blast on the gr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need: a sequence file, a database, a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are given 3 diffferent scenari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- use only the UI and the CE to deploy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- use the 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- use high level services (AMG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each one, present a solution, and the advantages and misadvant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don't need to implement anything for the moment, just present a workflow describing how your application will r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523880"/>
            <a:ext cx="6324480" cy="33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901"/>
              </a:spcBef>
              <a:spcAft>
                <a:spcPts val="1125"/>
              </a:spcAft>
              <a:buClr>
                <a:srgbClr val="ffcc00"/>
              </a:buClr>
              <a:buSzPct val="110000"/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 two text files on the Gr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901"/>
              </a:spcBef>
              <a:spcAft>
                <a:spcPts val="1125"/>
              </a:spcAft>
              <a:buClr>
                <a:srgbClr val="ffcc00"/>
              </a:buClr>
              <a:buSzPct val="110000"/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and submit a job that retrieves these files, read them and concatenate them back to a new file, store this result file back to the grid and replicate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901"/>
              </a:spcBef>
              <a:spcAft>
                <a:spcPts val="1125"/>
              </a:spcAft>
              <a:buClr>
                <a:srgbClr val="ffcc00"/>
              </a:buClr>
              <a:buSzPct val="110000"/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the job is finished, retrieve the file from the SE on the U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901"/>
              </a:spcBef>
              <a:spcAft>
                <a:spcPts val="1125"/>
              </a:spcAft>
              <a:buClr>
                <a:srgbClr val="ffcc00"/>
              </a:buClr>
              <a:buSzPct val="110000"/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 and unregister all the files and replicas cr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901"/>
              </a:spcBef>
              <a:spcAft>
                <a:spcPts val="1125"/>
              </a:spcAft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b</dc:creator>
  <dc:description/>
  <dc:language>en-US</dc:language>
  <cp:lastModifiedBy>Jean Salzemann</cp:lastModifiedBy>
  <cp:revision>0</cp:revision>
  <dc:subject/>
  <dc:title>The EGEE project</dc:title>
</cp:coreProperties>
</file>