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889-0426-445D-B303-64546910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6B8-D3FE-4337-BE00-63E20567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523-8800-4067-96FF-5AC9ECE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D11-DF5A-44E1-B27E-4187BD92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09A-EE2A-40E9-ABAF-6DBBA9EB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E59-2063-4B8F-8CE1-AF25F9BC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F70-BFB7-4CA5-B939-38890CDD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B94-9331-4E0E-9BB9-DA1F4D1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4C4-00A0-4C05-B39A-5832235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BCD-4DEB-4310-897C-0511A73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854-78C5-426B-B874-9EFDD0E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C1F-3110-46B2-825C-CDFBCA5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JPP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NRS Paris May 15-16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a-Pacific Co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A6CE-2DA6-47C8-84B0-A1E10926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380880" y="0"/>
          <a:ext cx="1143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0"/>
                    <a:ext cx="1143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229600" y="0"/>
            <a:ext cx="914400" cy="896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86200" y="0"/>
            <a:ext cx="1371600" cy="549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381880" y="0"/>
            <a:ext cx="609840" cy="307080"/>
          </a:xfrm>
          <a:prstGeom prst="rect">
            <a:avLst/>
          </a:prstGeom>
          <a:solidFill>
            <a:srgbClr val="61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rf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sps.go.jp/english/e-astrategy/07_asiahorcs_01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seps.in2p3.fr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676520" y="838080"/>
            <a:ext cx="586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uro-Asia Symposiu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819520" y="449568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kyo, 200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52280" y="1600200"/>
            <a:ext cx="87631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Physic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owards Science Innovations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4866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391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World-wide projects can be initiated and run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105520" y="274320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175248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124080" y="3124080"/>
            <a:ext cx="1981440" cy="333360"/>
          </a:xfrm>
          <a:prstGeom prst="leftRightArrow">
            <a:avLst>
              <a:gd name="adj1" fmla="val 50000"/>
              <a:gd name="adj2" fmla="val 118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18456600">
            <a:off x="2514600" y="2174400"/>
            <a:ext cx="1258920" cy="623880"/>
          </a:xfrm>
          <a:prstGeom prst="leftRightArrow">
            <a:avLst>
              <a:gd name="adj1" fmla="val 50000"/>
              <a:gd name="adj2" fmla="val 40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492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alance Physics Research cooperation among the 3 main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051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sia-Europ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 rot="2700000">
            <a:off x="4507200" y="2387520"/>
            <a:ext cx="1143000" cy="76320"/>
          </a:xfrm>
          <a:prstGeom prst="leftRightArrow">
            <a:avLst>
              <a:gd name="adj1" fmla="val 50000"/>
              <a:gd name="adj2" fmla="val 2981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 rot="13492200">
            <a:off x="4560480" y="2082600"/>
            <a:ext cx="1066680" cy="623880"/>
          </a:xfrm>
          <a:prstGeom prst="leftRightArrow">
            <a:avLst>
              <a:gd name="adj1" fmla="val 50000"/>
              <a:gd name="adj2" fmla="val 340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86680" y="1523880"/>
            <a:ext cx="2857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181480" y="281952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160020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276720" y="990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981080" y="457200"/>
            <a:ext cx="502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ents in co-i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ECD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133720"/>
            <a:ext cx="609840" cy="761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1337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10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2133720"/>
            <a:ext cx="9144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3080" y="220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240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4382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495320" y="22856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7760" y="3429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95480" y="23619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51460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28954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3352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656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6280" y="137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016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37720" y="3352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4480" y="1701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9400" y="3733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9080" y="2057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43400" y="3505320"/>
            <a:ext cx="2209680" cy="1218960"/>
            <a:chOff x="4343400" y="3505320"/>
            <a:chExt cx="2209680" cy="1218960"/>
          </a:xfrm>
        </p:grpSpPr>
        <p:sp>
          <p:nvSpPr>
            <p:cNvPr id="91" name=""/>
            <p:cNvSpPr/>
            <p:nvPr/>
          </p:nvSpPr>
          <p:spPr>
            <a:xfrm>
              <a:off x="4726800" y="3505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5181480" y="380988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343400" y="41911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105520" y="3505320"/>
              <a:ext cx="3045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5560" y="419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66720" y="4343400"/>
            <a:ext cx="2286360" cy="1219320"/>
            <a:chOff x="4266720" y="4343400"/>
            <a:chExt cx="2286360" cy="1219320"/>
          </a:xfrm>
        </p:grpSpPr>
        <p:sp>
          <p:nvSpPr>
            <p:cNvPr id="97" name=""/>
            <p:cNvSpPr/>
            <p:nvPr/>
          </p:nvSpPr>
          <p:spPr>
            <a:xfrm>
              <a:off x="4726800" y="4419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5181480" y="464832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556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66720" y="49528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028840" y="43434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43400" y="5181120"/>
            <a:ext cx="2209680" cy="1143360"/>
            <a:chOff x="4343400" y="5181120"/>
            <a:chExt cx="2209680" cy="1143360"/>
          </a:xfrm>
        </p:grpSpPr>
        <p:sp>
          <p:nvSpPr>
            <p:cNvPr id="103" name=""/>
            <p:cNvSpPr/>
            <p:nvPr/>
          </p:nvSpPr>
          <p:spPr>
            <a:xfrm>
              <a:off x="4726800" y="5257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1880" y="5791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5791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028840" y="518112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5181480" y="5410080"/>
              <a:ext cx="1371600" cy="91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319440" y="990720"/>
            <a:ext cx="28202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3 region perfect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idge the knowledge and digital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2133720" y="1447920"/>
            <a:ext cx="3962160" cy="388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5105520" y="2743200"/>
            <a:ext cx="12189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1752480" y="2895480"/>
            <a:ext cx="13716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22860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volve Developing Countries in world-wide research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2895480" y="3505320"/>
            <a:ext cx="251460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2840" y="533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yo,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05920" cy="1295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ve, Pedagogical and 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peration and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scientific projects and large scale infrastructures (roadmaps, ESFRI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tup a framewor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finance and to bo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752480"/>
            <a:ext cx="82501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ists, Government, Research Organization decision mak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dustry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2819520"/>
            <a:ext cx="8229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Euro-Asia Countries including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80880" y="4876920"/>
            <a:ext cx="830592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endor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M (Asian-Europe Me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ime Min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eting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ijing Oct 24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57200" y="990720"/>
            <a:ext cx="8229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organization: CNRS/IN2P3(France) - JSPS/KEK(Japan)+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S&amp;T Commission –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IAHOR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ead of research Councils)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562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ysics supports Science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nowledg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Theoretical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Grand unification of the fundamental forces, impact on other sciences (i.e. String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theory approaches in biolog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Astrophysics, cosm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The new vision of the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Particle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New acceleration and detection technologies: the next 20 years roadmap; The nex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large world-wide project: technical, industrial, financial, management and politic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challenges; R&amp;D infrastructures and projects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uclear Phys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large scale equipments sharing and projects complementar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IL, GSI, J-PARC, RIKEN,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Social and Human Scien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Global archived document scanning and storing; Open access initiativ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ew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ano-materi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: R&amp;D and technology platforms sharing and coordination (Minatec, NIMS, AIST, 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Superconductivity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High Tc materials: coordination of a global material sc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Characteriz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ynchrotron radiation, FEL and XFEL, Neutron sources, very high magnetic fields…: Matter (from plasma to bio-cells) at atomic scales and fento-second resolution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iomed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Neuro-physics 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urospin (brain stud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Modelizatio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ulation of diagnosis equip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Hadron-therap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rradiation doses precise estimation through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High-speed alert 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ystem based on the 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GR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virus (avian flu) or tsunami: coordination and systems interoperability; Global endeavor on drug screening and discover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46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Bioinfor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74200" y="571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En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ving with new materials, optoelectronics devices,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Global hea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: geophysics, atmosphere and marine physics new needed measurements and simulation (supercomputers, GR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s to solve </a:t>
            </a: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pol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environmental destruction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Space phys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mmon management of launchers from ESA, Russia, China, Japan, India, … for physics projects i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Sustainable energ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F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TER and other approaches (laser or ion b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formation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Nano-electron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uantum computer: beyond the Moore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cc"/>
                </a:solidFill>
                <a:latin typeface="Arial"/>
              </a:rPr>
              <a:t>Robotics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elp to the person, work in hostile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074840" y="5286960"/>
            <a:ext cx="729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und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Innovation in Experimental and Theoretical Phy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raining school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specially in the developing countries in a multi-lateral teaching/support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Joint laborator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sted by the main research organizations or universities coordinated in a global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Research infrastructur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he developing countries (i.e. linac in Vietnam, GRID in ASEAN countri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ipation of the </a:t>
            </a: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developing countr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large scale international projec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LHC, ILC, space science, mesophysic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47000" y="1905120"/>
            <a:ext cx="514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ed by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ubli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privat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World-Physics-Centers-logo"/>
          <p:cNvPicPr/>
          <p:nvPr/>
        </p:nvPicPr>
        <p:blipFill>
          <a:blip r:embed="rId1"/>
          <a:stretch/>
        </p:blipFill>
        <p:spPr>
          <a:xfrm>
            <a:off x="304920" y="23623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600200" y="2438280"/>
            <a:ext cx="70102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World Physics Cent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t the frontier of physics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the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orists and experimentalis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n joint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 global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61240" y="56786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seps.in2p3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096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546280" y="609480"/>
            <a:ext cx="46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ing International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962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nom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quality of lif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bound t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no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resear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duce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anges of civiliz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Resear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lob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tional coope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cess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ia - North-America – Europe (Russi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n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orld-wide pro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st reinforce the Europe-Asia  cooperation to have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ble ba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8-05-16T08:25:2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