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0F2F-2BB7-49D1-9B83-E4E13590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A93D-3B98-481F-9C69-8E7966E5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594B-64D9-48AA-A172-A5A24498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B243-9CB3-4736-B542-039AF3A1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9D4B-1EB3-484B-A007-81ECC216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0A59-AE42-49E7-BBEA-5D0A2BF1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C343-B173-45FE-88C5-15742E7C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6FFF-E010-43C1-A50F-2B58ABD2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760D-665D-4871-B6DD-888FFFDC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369-71DE-4CA8-B99E-86F6168E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239B-4B4A-4119-B09B-F5655911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47C9-F586-49F3-980B-38DAD511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7F6D-3437-4188-B237-C24FF4D42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V_PPL 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99736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rance-Vietn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ticle Physics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cc33"/>
                </a:solidFill>
                <a:latin typeface="Arial"/>
              </a:rPr>
              <a:t>Under construction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Initiativ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F. Lediberder in summ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History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nce 1993: several international conferences in </a:t>
            </a: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Particle/Astroparticle Physics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 Viet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ST: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guyen Van H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NRS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an Thanh V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ith Rencontres du Viet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nce 1994: annual Vietnam schools of Physics (VS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« QFT applied to particle physics and condensed matter physics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nce 2000: </a:t>
            </a: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Bachelor of Scien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n Han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anoi University of Sciences (Pham Quoc H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iversité de Bordeaux 1 (Philippe Quent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007: </a:t>
            </a: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School on Advanced Computing and Grid Technologi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(ACGR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2P3 : Vincent Breton, VAST : Vu Duc T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nce 2007: Master 1 and Maste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« Nuclear Physics and Applications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anoi University of Sciences (Ha Thuy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iversité de Bordeaux 1 (Philippe Quent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008:16 doctoral students in Nuclear and Particle Physics in IN2P3 laborat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Scientific projec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uclear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uclear structure, nuclei far from stability and applications to astrophysics: theory-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ectrostatic accelerator in HUS and applications (biomedicine, radiation therapy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ow background radioactivity, gamma-ray spectroscospy and applications to environmental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lasma laboratory in University of Dan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Scientific projec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ticle and astroparticle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smic ray research at AUGER: Pierre Darriulat established a small laboratory, VATLY, at VA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TLAS collaboration: based on several Vietnamese doctoral/post-doctoral researchers i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ecision calculations for LHC process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o Chi Minh City-Hanoi-Annecy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Scientific projec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rid technologies and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Vincent Breton (LPC Clermont-Ferrand), Vu Duc Thi (IOIT-VAST Hano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mprovement of Grid infrastructure in Vietn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vian flu alert and monitor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elemedicine, implementation of  HOPE platform developed at LPC and data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ta base for chemistry and bioactivity of Vietnamese natur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Training progra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pecific to LIA FV_P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rganisation of annual schools opened to other (South-East) Asi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SOP Vietnam School of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(P. Aurenche, CNRS; Nguyen Anh Ky, V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ased on 14 years experi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udents from Vietnam, China, Taiwan, Thailand, Malaysia, Lao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fessors from Europe, Korea, Japan, India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lection of students for fellowships, CERN Summer Student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Training progra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GRID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(Vincent Breton, IN2P3; Vu Duc Thi, Tran Van Lang, IOIT-V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ands on teac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operation with Taiwan for GRID ac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chool on accel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(Alex Müller, IN2P3; Dang Quang Thieu, VA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chool on Nuclear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(Philippe Quentin, Univ. de Bordeaux; Hoang Anh Tuan, VA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3:27:49Z</dcterms:created>
  <dc:creator>Administrateur</dc:creator>
  <dc:description/>
  <dc:language>en-US</dc:language>
  <cp:lastModifiedBy>Administrateur</cp:lastModifiedBy>
  <dcterms:modified xsi:type="dcterms:W3CDTF">2008-05-16T14:35:09Z</dcterms:modified>
  <cp:revision>3</cp:revision>
  <dc:subject/>
  <dc:title>Diapositive 1</dc:title>
</cp:coreProperties>
</file>