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197-8A09-49D2-BB34-CE2B5C21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DCC-B505-4BE5-AB17-26ED01F3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14A-97D0-4970-8D75-01F12EEB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928-6406-4D2B-81EE-79A10811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9CF-C242-4BA1-98DA-FE23B272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5E0-6410-4976-9E0F-BCD53881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0E4-1BCC-44DD-96F6-6392E548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F3D-F629-4A8C-8C26-A75EDEF6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AAC-C02B-4C96-8C46-DEBEB5E5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AB7-1B03-48E1-9390-2B692CFA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E2A-57E4-420A-80BA-21752CC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525-FEE4-4900-9331-7F0AA515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ACB3-599E-4214-AA34-96CD04C48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V_PPL 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997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ance-Vietn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icle Physics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cc33"/>
                </a:solidFill>
                <a:latin typeface="Arial"/>
              </a:rPr>
              <a:t>Under constructio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Initiativ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F. Lediberder in summ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nce 1993: several international conferences in 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Particle/Astroparticle Physics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ST: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guyen Van H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NRS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 Thanh V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ith Rencontres du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nce 1994: annual Vietnam schools of Physics (VS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« QFT applied to particle physics and condensed matter physic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nce 2000: 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Bachelor of Scie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in Han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noi University of Sciences (Pham Quoc H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iversité de Bordeaux 1 (Philippe Quen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7: 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School on Advanced Computing and Grid Technologi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(ACG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2P3 : Vincent Breton, VAST : Vu Duc T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nce 2007: Master 1 and Mast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« Nuclear Physics and Application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noi University of Sciences (Ha Thuy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iversité de Bordeaux 1 (Philippe Quen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8:16 doctoral students in Nuclear and Particle Physics in IN2P3 laborat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cientific projec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uclear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uclear structure, nuclei far from stability and applications to astrophysics: theory-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ectrostatic accelerator in HUS and applications (biomedicine, radiation therapy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ow background radioactivity, gamma-ray spectroscospy and applications to environmenta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asma laboratory in University of Dan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cientific projec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icle and astroparticle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smic ray research at AUGER: Pierre Darriulat established a small laboratory, VATLY, at VA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TLAS collaboration: based on several Vietnamese doctoral/post-doctoral researchers 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cision calculations for LHC process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 Chi Minh City-Hanoi-Annecy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cientific projec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rid technologies an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incent Breton (LPC Clermont-Ferrand), Vu Duc Thi (IOIT-VAST Hano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rovement of Grid infrastructure in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ian flu alert and monitor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lemedicine, implementation of  HOPE platform developed at LPC and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ta base for chemistry and bioactivity of Vietnamese natur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Training progra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pecific to LIA FV_P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 of annual schools opened to other (South-East) Asi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SOP Vietnam School of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P. Aurenche, CNRS; Nguyen Anh Ky, V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sed on 14 years exper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udents from Vietnam, China, Taiwan, Thailand, Malaysia, Lao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fessors from Europe, Korea, Japan, Indi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lection of students for fellowships, CERN Summer Student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Training progra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GRID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Vincent Breton, IN2P3; Vu Duc Thi, Tran Van Lang, IOIT-V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nds on tea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operation with Taiwan for GRID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chool on accel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Alex Müller, IN2P3; Dang Quang Thieu, VA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chool on Nuclear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Philippe Quentin, Univ. de Bordeaux; Hoang Anh Tuan, VA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27:49Z</dcterms:created>
  <dc:creator>Administrateur</dc:creator>
  <dc:description/>
  <dc:language>en-US</dc:language>
  <cp:lastModifiedBy>Administrateur</cp:lastModifiedBy>
  <dcterms:modified xsi:type="dcterms:W3CDTF">2008-05-16T14:35:09Z</dcterms:modified>
  <cp:revision>3</cp:revision>
  <dc:subject/>
  <dc:title>Diapositive 1</dc:title>
</cp:coreProperties>
</file>