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14.pct" ContentType="image/x-pict"/>
  <Override PartName="/ppt/media/image32.jpeg" ContentType="image/jpeg"/>
  <Override PartName="/ppt/media/image10.jpeg" ContentType="image/jpeg"/>
  <Override PartName="/ppt/media/image5.png" ContentType="image/png"/>
  <Override PartName="/ppt/media/image33.jpeg" ContentType="image/jpeg"/>
  <Override PartName="/ppt/media/image45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ct" ContentType="image/x-pict"/>
  <Override PartName="/ppt/media/image40.jpeg" ContentType="image/jpeg"/>
  <Override PartName="/ppt/media/image46.png" ContentType="image/png"/>
  <Override PartName="/ppt/media/image48.png" ContentType="image/png"/>
  <Override PartName="/ppt/media/image47.pct" ContentType="image/x-pict"/>
  <Override PartName="/ppt/media/image13.png" ContentType="image/png"/>
  <Override PartName="/ppt/media/image11.jpeg" ContentType="image/jpeg"/>
  <Override PartName="/ppt/media/image38.png" ContentType="image/png"/>
  <Override PartName="/ppt/media/image35.pct" ContentType="image/x-pict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36.pct" ContentType="image/x-pict"/>
  <Override PartName="/ppt/media/image22.jpeg" ContentType="image/jpeg"/>
  <Override PartName="/ppt/media/image6.png" ContentType="image/png"/>
  <Override PartName="/ppt/media/image4.png" ContentType="image/png"/>
  <Override PartName="/ppt/media/image15.pct" ContentType="image/x-pict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0C8-E556-4220-B221-CA092F95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87B-3ED1-4EAD-82D4-77400DD3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57B-7AF4-4508-858E-76943784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BF8-5F2F-4D5A-A8FE-CAC71BAE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A055-1257-46B2-AB5D-D1C8A9F5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3FC3-7982-490B-847B-03DB51FA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78A1-9E62-4292-B8D6-A0308886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1E2-2051-4349-97C1-868D4A3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6065-23CD-450F-9AF2-46EA75F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710-AA1C-400D-9E90-F6912C3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8B73-F738-4300-AE4E-8714131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591-0236-459A-8694-A9F15A55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ED2-3956-444B-85B5-2CEDA05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9711-3FF7-4929-B31D-0612515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032-C262-49CB-996E-1C2659F6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03C5-4FB4-41EA-92C4-36375A86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0A8B-C37D-481E-80DB-2A8C42DF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399C-1601-4B69-A031-2818BE51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CE18-3C5A-4167-974E-DDFB96A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9DC8-10B9-4EB6-B739-4452AC1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35ED-101E-4DC0-9B82-076532B6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129C-8DE2-4F9B-A601-375064EF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1BF-0ACE-4FD9-88E3-DD1A24C8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2128-8612-42E6-833F-15F7D695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BFC7-AE8E-49BB-ABA8-381FB82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B052-CFF6-48A9-9F50-5E50217A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B46C-4880-4314-84C8-C84CCAB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BAEC-4DFC-4418-B575-2781D9C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FCFF-06F7-4D61-A44D-0A8446E8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F5FC-F7E3-490A-A0BE-4AAE3DDC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E6BE-B8AE-4890-B178-55437978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5B98-88C8-4CBC-B3E1-B67985C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8361-EB47-4B5F-B1BF-A318AB3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172-7126-4FDF-8D16-13C2E77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D1620-EC29-4FD0-AC9E-B6A4AD00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708E-CC50-4B89-B59E-204F8DCA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A55E-1691-4EC7-8D53-42539095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D812-DDAD-4229-80C6-DF3E2D8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445CF-6D6D-46A7-84F3-8530033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98AF-AAA0-4854-A4C6-39217FA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F680-C954-4F98-B321-152DED4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748C-F2FC-48A0-AC7F-CB056639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317B-94D3-4886-84A3-4F30E546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217C-C16E-4013-B2D4-4297E507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881-D681-4943-ADD3-98DBB0C9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2A608-41DE-4516-9E2C-B14D98A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F46D-32DA-4766-830B-5FBE8D6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34AE-49D2-4F7D-B70E-8C378B0B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4186-822A-473A-B190-03ACADCA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59D3-8D8D-40E7-A0CC-7F3DDBF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5959-5EB9-4B50-B265-C8A7DBC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1856-DF39-4466-81BF-7DFAB17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EF0D5-12E1-4E2D-AC4C-E3B8367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1886-DFA6-4125-A998-4CB93F0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72239-6293-4DAC-86F7-5892AD5B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467-662A-4150-AD4E-F06B58C6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8AB97-5B4E-4073-8E83-3F118FBD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F5F-0198-4D4C-825C-240F640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453-42E2-4413-B557-48BB11D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761-2DCA-489B-8B62-7B7CBFE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4C3F-15BE-46DB-BDAE-C1EE3A631F2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5A97-DF1E-4745-933D-B3676C844B1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7/04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羽澄昌史　（ＫＥＫ）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ＫＥＫ測定器開発室報告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2BD-87B5-416F-AF74-0A611A7A629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5" descr="map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457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2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/1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BF58-2A9D-4381-B2A4-F3CEDFB26488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5" descr="map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45734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2007/04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羽澄昌史　（ＫＥＫ）　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@ </a:t>
            </a: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ＫＥＫ測定器開発室報告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B11-15B3-4CBF-8AFA-53D4E43F33EE}" type="slidenum">
              <a:rPr b="0" lang="ja-JP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ct"/><Relationship Id="rId8" Type="http://schemas.openxmlformats.org/officeDocument/2006/relationships/image" Target="../media/image41.png"/><Relationship Id="rId9" Type="http://schemas.openxmlformats.org/officeDocument/2006/relationships/image" Target="../media/image43.png"/><Relationship Id="rId10" Type="http://schemas.openxmlformats.org/officeDocument/2006/relationships/image" Target="../media/image42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image" Target="../media/image22.jpe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rojects at K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stuaki Noz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KEK-IP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st of collaborator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860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KEK QUIET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asashi Hazumi, Takeo Higuchi, Osamu Taj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uperconducting detector R&amp;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asashi Hazumi, Takeo Higuchi, Shigeru Ishimoto, Takahiro Morishima, Hirohiko Shimizu, Kazutaka Sumisawa, Osamu Tajima, Yutaka Ushiroda, Mitsuhiro Yoshida (KE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eiichiro Ariyoshi, Chiko Otani, Hiromi Sato (RIKE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Hirokazu Ishino (T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Izumi Ota, Makoto Hattori (Tohok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テキスト ボックス 4"/>
          <p:cNvSpPr/>
          <p:nvPr/>
        </p:nvSpPr>
        <p:spPr>
          <a:xfrm>
            <a:off x="978840" y="2343240"/>
            <a:ext cx="68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(plus </a:t>
            </a:r>
            <a:r>
              <a:rPr b="1" i="1" lang="ja-JP" sz="2000" spc="-1" strike="noStrike">
                <a:solidFill>
                  <a:srgbClr val="ffff00"/>
                </a:solidFill>
                <a:latin typeface="Times New Roman"/>
              </a:rPr>
              <a:t>a new assistant professor </a:t>
            </a: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i="1" lang="ja-JP" sz="2000" spc="-1" strike="noStrike">
                <a:solidFill>
                  <a:srgbClr val="ffff00"/>
                </a:solidFill>
                <a:latin typeface="Times New Roman"/>
              </a:rPr>
              <a:t>a grad. student </a:t>
            </a: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from ~Ma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ja-JP" sz="2000" spc="-1" strike="noStrike">
                <a:solidFill>
                  <a:srgbClr val="ffffff"/>
                </a:solidFill>
                <a:latin typeface="Times New Roman"/>
              </a:rPr>
              <a:t>and hope more to jo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FV in charged lep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 at P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209760" cy="3528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12000" y="4194000"/>
            <a:ext cx="2508120" cy="2664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906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emplo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most intense DC muon beam at 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 Xe photon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 positron tracking system (COBRA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ull physics data acquisition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for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 Detector Up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47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detector resolution and background rejec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r granularity on the inner (entrance)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inch 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event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ow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e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ident angle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056200" y="4727520"/>
            <a:ext cx="1317600" cy="1494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583320" y="5000760"/>
            <a:ext cx="2187720" cy="1031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3320" y="6178680"/>
            <a:ext cx="201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. Ni et al NIM A551 (2005)356-3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96000" y="641844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matsu R5900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64240" y="3892680"/>
            <a:ext cx="424080" cy="750600"/>
          </a:xfrm>
          <a:prstGeom prst="downArrow">
            <a:avLst>
              <a:gd name="adj1" fmla="val 50000"/>
              <a:gd name="adj2" fmla="val 4424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07200" y="2349360"/>
            <a:ext cx="103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651640" y="907920"/>
            <a:ext cx="21762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succeed to observe enough number of ev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e to investigate “inside the loo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d muon itself is polar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Angular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26920" y="5300640"/>
            <a:ext cx="2987640" cy="1188720"/>
            <a:chOff x="826920" y="5300640"/>
            <a:chExt cx="2987640" cy="1188720"/>
          </a:xfrm>
        </p:grpSpPr>
        <p:grpSp>
          <p:nvGrpSpPr>
            <p:cNvPr id="358" name=""/>
            <p:cNvGrpSpPr/>
            <p:nvPr/>
          </p:nvGrpSpPr>
          <p:grpSpPr>
            <a:xfrm>
              <a:off x="1005840" y="6092640"/>
              <a:ext cx="2808720" cy="396720"/>
              <a:chOff x="1005840" y="6092640"/>
              <a:chExt cx="2808720" cy="396720"/>
            </a:xfrm>
          </p:grpSpPr>
          <p:sp>
            <p:nvSpPr>
              <p:cNvPr id="359" name=""/>
              <p:cNvSpPr/>
              <p:nvPr/>
            </p:nvSpPr>
            <p:spPr>
              <a:xfrm>
                <a:off x="2447640" y="6163920"/>
                <a:ext cx="1008000" cy="216000"/>
              </a:xfrm>
              <a:custGeom>
                <a:avLst/>
                <a:gdLst/>
                <a:ahLst/>
                <a:rect l="l" t="t" r="r" b="b"/>
                <a:pathLst>
                  <a:path w="725" h="98">
                    <a:moveTo>
                      <a:pt x="0" y="53"/>
                    </a:moveTo>
                    <a:cubicBezTo>
                      <a:pt x="21" y="26"/>
                      <a:pt x="42" y="0"/>
                      <a:pt x="68" y="7"/>
                    </a:cubicBezTo>
                    <a:cubicBezTo>
                      <a:pt x="94" y="14"/>
                      <a:pt x="128" y="98"/>
                      <a:pt x="158" y="98"/>
                    </a:cubicBezTo>
                    <a:cubicBezTo>
                      <a:pt x="188" y="98"/>
                      <a:pt x="219" y="7"/>
                      <a:pt x="249" y="7"/>
                    </a:cubicBezTo>
                    <a:cubicBezTo>
                      <a:pt x="279" y="7"/>
                      <a:pt x="310" y="98"/>
                      <a:pt x="340" y="98"/>
                    </a:cubicBezTo>
                    <a:cubicBezTo>
                      <a:pt x="370" y="98"/>
                      <a:pt x="401" y="7"/>
                      <a:pt x="431" y="7"/>
                    </a:cubicBezTo>
                    <a:cubicBezTo>
                      <a:pt x="461" y="7"/>
                      <a:pt x="495" y="98"/>
                      <a:pt x="521" y="98"/>
                    </a:cubicBezTo>
                    <a:cubicBezTo>
                      <a:pt x="547" y="98"/>
                      <a:pt x="566" y="11"/>
                      <a:pt x="589" y="7"/>
                    </a:cubicBezTo>
                    <a:cubicBezTo>
                      <a:pt x="612" y="3"/>
                      <a:pt x="634" y="60"/>
                      <a:pt x="657" y="75"/>
                    </a:cubicBezTo>
                    <a:cubicBezTo>
                      <a:pt x="680" y="90"/>
                      <a:pt x="702" y="94"/>
                      <a:pt x="725" y="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22200" y="6092640"/>
                <a:ext cx="358920" cy="323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06200" y="6092640"/>
                <a:ext cx="358920" cy="3236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ja-JP" sz="18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93840" y="6489360"/>
                <a:ext cx="287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328040" y="627336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47640" y="6127560"/>
                <a:ext cx="358920" cy="323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1005840" y="648936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74920" y="6487920"/>
                <a:ext cx="53964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26920" y="5300640"/>
              <a:ext cx="2808000" cy="396720"/>
              <a:chOff x="826920" y="5300640"/>
              <a:chExt cx="2808000" cy="39672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1185840" y="5371920"/>
                <a:ext cx="1008000" cy="215280"/>
              </a:xfrm>
              <a:custGeom>
                <a:avLst/>
                <a:gdLst/>
                <a:ahLst/>
                <a:rect l="l" t="t" r="r" b="b"/>
                <a:pathLst>
                  <a:path w="725" h="98">
                    <a:moveTo>
                      <a:pt x="0" y="53"/>
                    </a:moveTo>
                    <a:cubicBezTo>
                      <a:pt x="21" y="26"/>
                      <a:pt x="42" y="0"/>
                      <a:pt x="68" y="7"/>
                    </a:cubicBezTo>
                    <a:cubicBezTo>
                      <a:pt x="94" y="14"/>
                      <a:pt x="128" y="98"/>
                      <a:pt x="158" y="98"/>
                    </a:cubicBezTo>
                    <a:cubicBezTo>
                      <a:pt x="188" y="98"/>
                      <a:pt x="219" y="7"/>
                      <a:pt x="249" y="7"/>
                    </a:cubicBezTo>
                    <a:cubicBezTo>
                      <a:pt x="279" y="7"/>
                      <a:pt x="310" y="98"/>
                      <a:pt x="340" y="98"/>
                    </a:cubicBezTo>
                    <a:cubicBezTo>
                      <a:pt x="370" y="98"/>
                      <a:pt x="401" y="7"/>
                      <a:pt x="431" y="7"/>
                    </a:cubicBezTo>
                    <a:cubicBezTo>
                      <a:pt x="461" y="7"/>
                      <a:pt x="495" y="98"/>
                      <a:pt x="521" y="98"/>
                    </a:cubicBezTo>
                    <a:cubicBezTo>
                      <a:pt x="547" y="98"/>
                      <a:pt x="566" y="11"/>
                      <a:pt x="589" y="7"/>
                    </a:cubicBezTo>
                    <a:cubicBezTo>
                      <a:pt x="612" y="3"/>
                      <a:pt x="634" y="60"/>
                      <a:pt x="657" y="75"/>
                    </a:cubicBezTo>
                    <a:cubicBezTo>
                      <a:pt x="680" y="90"/>
                      <a:pt x="702" y="94"/>
                      <a:pt x="725" y="9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159640" y="5300640"/>
                <a:ext cx="358920" cy="3236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3275640" y="5300640"/>
                <a:ext cx="358920" cy="323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ja-JP" sz="18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160360" y="5697360"/>
                <a:ext cx="287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20720" y="548136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934200" y="5335200"/>
                <a:ext cx="358920" cy="3236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345840" y="569736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6920" y="5695560"/>
                <a:ext cx="53964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4941720" y="4010040"/>
            <a:ext cx="4238640" cy="251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400720" y="647712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uno and Okada, PRL 77(1996)4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00000" y="3141720"/>
            <a:ext cx="3674880" cy="1852560"/>
            <a:chOff x="900000" y="3141720"/>
            <a:chExt cx="3674880" cy="1852560"/>
          </a:xfrm>
        </p:grpSpPr>
        <p:grpSp>
          <p:nvGrpSpPr>
            <p:cNvPr id="379" name=""/>
            <p:cNvGrpSpPr/>
            <p:nvPr/>
          </p:nvGrpSpPr>
          <p:grpSpPr>
            <a:xfrm>
              <a:off x="900000" y="3141720"/>
              <a:ext cx="2949480" cy="1852560"/>
              <a:chOff x="900000" y="3141720"/>
              <a:chExt cx="2949480" cy="1852560"/>
            </a:xfrm>
          </p:grpSpPr>
          <p:sp>
            <p:nvSpPr>
              <p:cNvPr id="380" name=""/>
              <p:cNvSpPr/>
              <p:nvPr/>
            </p:nvSpPr>
            <p:spPr>
              <a:xfrm>
                <a:off x="1115640" y="461808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Cloud"/>
              <p:cNvSpPr/>
              <p:nvPr/>
            </p:nvSpPr>
            <p:spPr>
              <a:xfrm>
                <a:off x="1618920" y="4149720"/>
                <a:ext cx="1260720" cy="84456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879640" y="465444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062200">
                <a:off x="2411280" y="3249360"/>
                <a:ext cx="252360" cy="1042920"/>
              </a:xfrm>
              <a:custGeom>
                <a:avLst/>
                <a:gdLst/>
                <a:ahLst/>
                <a:rect l="l" t="t" r="r" b="b"/>
                <a:pathLst>
                  <a:path w="166" h="839">
                    <a:moveTo>
                      <a:pt x="91" y="839"/>
                    </a:moveTo>
                    <a:cubicBezTo>
                      <a:pt x="53" y="782"/>
                      <a:pt x="16" y="726"/>
                      <a:pt x="23" y="681"/>
                    </a:cubicBezTo>
                    <a:cubicBezTo>
                      <a:pt x="30" y="636"/>
                      <a:pt x="140" y="605"/>
                      <a:pt x="136" y="567"/>
                    </a:cubicBezTo>
                    <a:cubicBezTo>
                      <a:pt x="132" y="529"/>
                      <a:pt x="0" y="495"/>
                      <a:pt x="0" y="454"/>
                    </a:cubicBezTo>
                    <a:cubicBezTo>
                      <a:pt x="0" y="413"/>
                      <a:pt x="132" y="360"/>
                      <a:pt x="136" y="318"/>
                    </a:cubicBezTo>
                    <a:cubicBezTo>
                      <a:pt x="140" y="276"/>
                      <a:pt x="19" y="238"/>
                      <a:pt x="23" y="204"/>
                    </a:cubicBezTo>
                    <a:cubicBezTo>
                      <a:pt x="27" y="170"/>
                      <a:pt x="152" y="148"/>
                      <a:pt x="159" y="114"/>
                    </a:cubicBezTo>
                    <a:cubicBezTo>
                      <a:pt x="166" y="80"/>
                      <a:pt x="19" y="8"/>
                      <a:pt x="6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0000" y="4475160"/>
                <a:ext cx="358560" cy="32400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736720" y="3141720"/>
                <a:ext cx="358560" cy="3236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90560" y="4475160"/>
                <a:ext cx="358920" cy="3240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flipV="1">
              <a:off x="1079280" y="4257360"/>
              <a:ext cx="0" cy="28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79280" y="4797720"/>
              <a:ext cx="0" cy="10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26920" y="4365720"/>
              <a:ext cx="107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 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95640" y="451008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032000" y="44020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319280" y="44020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1080" y="451008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983280" y="2738520"/>
            <a:ext cx="468360" cy="43344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523280" y="2953800"/>
            <a:ext cx="54288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37440" y="2805120"/>
            <a:ext cx="322200" cy="3301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48360" y="2774880"/>
            <a:ext cx="322200" cy="3240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6408720" y="2953800"/>
            <a:ext cx="503280" cy="1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6160" y="3243240"/>
            <a:ext cx="503280" cy="324000"/>
          </a:xfrm>
          <a:prstGeom prst="leftArrow">
            <a:avLst>
              <a:gd name="adj1" fmla="val 50000"/>
              <a:gd name="adj2" fmla="val 3883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37440" y="3567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9900"/>
                </a:solidFill>
                <a:latin typeface="Arial"/>
              </a:rPr>
              <a:t>S</a:t>
            </a:r>
            <a:r>
              <a:rPr b="0" lang="ja-JP" sz="18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24720" y="3603600"/>
            <a:ext cx="2527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938920" y="3241800"/>
            <a:ext cx="503280" cy="323640"/>
          </a:xfrm>
          <a:prstGeom prst="leftArrow">
            <a:avLst>
              <a:gd name="adj1" fmla="val 50000"/>
              <a:gd name="adj2" fmla="val 3887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04000" y="3565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99cc00"/>
                </a:solidFill>
                <a:latin typeface="Arial"/>
              </a:rPr>
              <a:t>S</a:t>
            </a:r>
            <a:r>
              <a:rPr b="0" lang="ja-JP" sz="1800" spc="-1" strike="noStrike">
                <a:solidFill>
                  <a:srgbClr val="99cc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3602160"/>
            <a:ext cx="25236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948360" y="37828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00% pola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508720" y="981000"/>
            <a:ext cx="345600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-e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691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plementary experiment to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t least at ~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r(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CH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f larger, different process must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ed intense mu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igh power proton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ulsed beam structure to suppress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3338640" cy="20556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4446720"/>
            <a:ext cx="3483000" cy="2295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18480" y="3857760"/>
            <a:ext cx="2785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ossible bunch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t J-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5445000"/>
            <a:ext cx="4608360" cy="576360"/>
          </a:xfrm>
          <a:custGeom>
            <a:avLst/>
            <a:gdLst/>
            <a:ahLst/>
            <a:rect l="l" t="t" r="r" b="b"/>
            <a:pathLst>
              <a:path w="2903" h="363">
                <a:moveTo>
                  <a:pt x="0" y="363"/>
                </a:moveTo>
                <a:lnTo>
                  <a:pt x="499" y="363"/>
                </a:lnTo>
                <a:lnTo>
                  <a:pt x="635" y="0"/>
                </a:lnTo>
                <a:lnTo>
                  <a:pt x="635" y="363"/>
                </a:lnTo>
                <a:lnTo>
                  <a:pt x="1542" y="363"/>
                </a:lnTo>
                <a:lnTo>
                  <a:pt x="1678" y="0"/>
                </a:lnTo>
                <a:lnTo>
                  <a:pt x="1678" y="363"/>
                </a:lnTo>
                <a:lnTo>
                  <a:pt x="2903" y="363"/>
                </a:lnTo>
              </a:path>
            </a:pathLst>
          </a:custGeom>
          <a:noFill/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00000" y="63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58000" y="63262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436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11564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37280" y="5029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19280" y="5589720"/>
            <a:ext cx="93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19280" y="5445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46720" y="5029200"/>
            <a:ext cx="7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203640" y="5444640"/>
            <a:ext cx="0" cy="576360"/>
          </a:xfrm>
          <a:prstGeom prst="line">
            <a:avLst/>
          </a:prstGeom>
          <a:ln w="9360">
            <a:solidFill>
              <a:srgbClr val="ff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37920" y="55371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Extinction &lt;10</a:t>
            </a:r>
            <a:r>
              <a:rPr b="1" lang="en-US" sz="1800" spc="-1" strike="noStrike" baseline="30000">
                <a:solidFill>
                  <a:srgbClr val="ff99ff"/>
                </a:solidFill>
                <a:latin typeface="Arial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1125360"/>
            <a:ext cx="3313080" cy="165600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88200" y="11253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de-CH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de-CH" sz="18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de-CH" sz="1800" spc="-1" strike="noStrike">
                <a:solidFill>
                  <a:srgbClr val="009999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05640" y="308628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-e 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New Initiatives at K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nergy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LC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uminosity/intensity/precision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epton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2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Arial"/>
              </a:rPr>
              <a:t>MEG --&gt; mu-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ark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uper-) Belle @(super-) KE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are K decay @J-P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CMB pol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hysics with neutrons, muons @J-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physics with strong EM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ector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B B-mode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quick start by joining QUIET/Polar-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&amp;D for future spac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F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engthen contribution to MEG @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analysis in addition to hardware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easibility study of mu-e conversion @J-P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thers unde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ser acceleration and physics with strong EM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hysics with U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hysics with muons, e.g. g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Experimental Cosmology Program at KEK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Precision Measurements of Cosmic Microwave Background (CMB) Pola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66"/>
                </a:solidFill>
                <a:latin typeface="Times New Roman"/>
              </a:rPr>
              <a:t>Objective</a:t>
            </a:r>
            <a:r>
              <a:rPr b="0" lang="ja-JP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B-mode polarization (“curl component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66"/>
                </a:solidFill>
                <a:latin typeface="Times New Roman"/>
              </a:rPr>
              <a:t>Science</a:t>
            </a:r>
            <a:r>
              <a:rPr b="0" lang="ja-JP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 Inflation, primordial gravitational wave, quantum gra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ff66"/>
                </a:solidFill>
                <a:latin typeface="Times New Roman"/>
              </a:rPr>
              <a:t>Projects</a:t>
            </a:r>
            <a:r>
              <a:rPr b="0" lang="ja-JP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7620120" y="763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ＭＳ Ｐゴシック"/>
              </a:rPr>
              <a:t>New 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ＭＳ Ｐゴシック"/>
              <a:ea typeface="ＭＳ Ｐゴシック"/>
            </a:endParaRPr>
          </a:p>
        </p:txBody>
      </p:sp>
      <p:grpSp>
        <p:nvGrpSpPr>
          <p:cNvPr id="230" name="グループ化 12"/>
          <p:cNvGrpSpPr/>
          <p:nvPr/>
        </p:nvGrpSpPr>
        <p:grpSpPr>
          <a:xfrm>
            <a:off x="304920" y="2438280"/>
            <a:ext cx="8534160" cy="4419720"/>
            <a:chOff x="304920" y="2438280"/>
            <a:chExt cx="8534160" cy="4419720"/>
          </a:xfrm>
        </p:grpSpPr>
        <p:sp>
          <p:nvSpPr>
            <p:cNvPr id="231" name="横巻き 4"/>
            <p:cNvSpPr/>
            <p:nvPr/>
          </p:nvSpPr>
          <p:spPr>
            <a:xfrm>
              <a:off x="304920" y="2438280"/>
              <a:ext cx="8534160" cy="533160"/>
            </a:xfrm>
            <a:prstGeom prst="horizontalScroll">
              <a:avLst>
                <a:gd name="adj" fmla="val 12500"/>
              </a:avLst>
            </a:prstGeom>
            <a:solidFill>
              <a:srgbClr val="00266b"/>
            </a:solidFill>
            <a:ln w="25560">
              <a:solidFill>
                <a:srgbClr val="23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Times New Roman"/>
                </a:rPr>
                <a:t>2007       08       09       10       11       12       13       14       15       16       17       18       19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正方形/長方形 5"/>
            <p:cNvSpPr/>
            <p:nvPr/>
          </p:nvSpPr>
          <p:spPr>
            <a:xfrm>
              <a:off x="129528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正方形/長方形 7"/>
            <p:cNvSpPr/>
            <p:nvPr/>
          </p:nvSpPr>
          <p:spPr>
            <a:xfrm>
              <a:off x="251460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正方形/長方形 8"/>
            <p:cNvSpPr/>
            <p:nvPr/>
          </p:nvSpPr>
          <p:spPr>
            <a:xfrm>
              <a:off x="373392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正方形/長方形 9"/>
            <p:cNvSpPr/>
            <p:nvPr/>
          </p:nvSpPr>
          <p:spPr>
            <a:xfrm>
              <a:off x="502920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正方形/長方形 10"/>
            <p:cNvSpPr/>
            <p:nvPr/>
          </p:nvSpPr>
          <p:spPr>
            <a:xfrm>
              <a:off x="624852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正方形/長方形 11"/>
            <p:cNvSpPr/>
            <p:nvPr/>
          </p:nvSpPr>
          <p:spPr>
            <a:xfrm>
              <a:off x="7543800" y="2514240"/>
              <a:ext cx="609480" cy="4343760"/>
            </a:xfrm>
            <a:prstGeom prst="rect">
              <a:avLst/>
            </a:prstGeom>
            <a:solidFill>
              <a:srgbClr val="ddddd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線矢印コネクタ 14" descr=""/>
          <p:cNvPicPr/>
          <p:nvPr/>
        </p:nvPicPr>
        <p:blipFill>
          <a:blip r:embed="rId1"/>
          <a:stretch/>
        </p:blipFill>
        <p:spPr>
          <a:xfrm>
            <a:off x="1311120" y="3389400"/>
            <a:ext cx="1681200" cy="798480"/>
          </a:xfrm>
          <a:prstGeom prst="rect">
            <a:avLst/>
          </a:prstGeom>
          <a:ln w="0">
            <a:noFill/>
          </a:ln>
        </p:spPr>
      </p:pic>
      <p:sp>
        <p:nvSpPr>
          <p:cNvPr id="239" name="テキスト ボックス 16"/>
          <p:cNvSpPr/>
          <p:nvPr/>
        </p:nvSpPr>
        <p:spPr>
          <a:xfrm>
            <a:off x="197640" y="35002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直線矢印コネクタ 17" descr=""/>
          <p:cNvPicPr/>
          <p:nvPr/>
        </p:nvPicPr>
        <p:blipFill>
          <a:blip r:embed="rId2"/>
          <a:stretch/>
        </p:blipFill>
        <p:spPr>
          <a:xfrm>
            <a:off x="2682720" y="3389400"/>
            <a:ext cx="2187720" cy="798480"/>
          </a:xfrm>
          <a:prstGeom prst="rect">
            <a:avLst/>
          </a:prstGeom>
          <a:ln w="0">
            <a:noFill/>
          </a:ln>
        </p:spPr>
      </p:pic>
      <p:sp>
        <p:nvSpPr>
          <p:cNvPr id="241" name="テキスト ボックス 19"/>
          <p:cNvSpPr/>
          <p:nvPr/>
        </p:nvSpPr>
        <p:spPr>
          <a:xfrm>
            <a:off x="1448640" y="31240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phas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20"/>
          <p:cNvSpPr/>
          <p:nvPr/>
        </p:nvSpPr>
        <p:spPr>
          <a:xfrm>
            <a:off x="2896200" y="31240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21"/>
          <p:cNvSpPr/>
          <p:nvPr/>
        </p:nvSpPr>
        <p:spPr>
          <a:xfrm>
            <a:off x="458640" y="4114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QUIET+Polar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Combin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直線矢印コネクタ 22" descr=""/>
          <p:cNvPicPr/>
          <p:nvPr/>
        </p:nvPicPr>
        <p:blipFill>
          <a:blip r:embed="rId3"/>
          <a:stretch/>
        </p:blipFill>
        <p:spPr>
          <a:xfrm>
            <a:off x="2682720" y="4048200"/>
            <a:ext cx="2213280" cy="798480"/>
          </a:xfrm>
          <a:prstGeom prst="rect">
            <a:avLst/>
          </a:prstGeom>
          <a:ln w="0">
            <a:noFill/>
          </a:ln>
        </p:spPr>
      </p:pic>
      <p:sp>
        <p:nvSpPr>
          <p:cNvPr id="245" name="テキスト ボックス 23"/>
          <p:cNvSpPr/>
          <p:nvPr/>
        </p:nvSpPr>
        <p:spPr>
          <a:xfrm>
            <a:off x="76680" y="4871880"/>
            <a:ext cx="43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Times New Roman"/>
              </a:rPr>
              <a:t>Superconducting detector 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Times New Roman"/>
              </a:rPr>
              <a:t>(w/ RIKEN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直線矢印コネクタ 24" descr=""/>
          <p:cNvPicPr/>
          <p:nvPr/>
        </p:nvPicPr>
        <p:blipFill>
          <a:blip r:embed="rId4"/>
          <a:stretch/>
        </p:blipFill>
        <p:spPr>
          <a:xfrm>
            <a:off x="1238400" y="5340240"/>
            <a:ext cx="3887640" cy="798480"/>
          </a:xfrm>
          <a:prstGeom prst="rect">
            <a:avLst/>
          </a:prstGeom>
          <a:ln w="0">
            <a:noFill/>
          </a:ln>
        </p:spPr>
      </p:pic>
      <p:pic>
        <p:nvPicPr>
          <p:cNvPr id="247" name="直線矢印コネクタ 27" descr=""/>
          <p:cNvPicPr/>
          <p:nvPr/>
        </p:nvPicPr>
        <p:blipFill>
          <a:blip r:embed="rId5"/>
          <a:stretch/>
        </p:blipFill>
        <p:spPr>
          <a:xfrm>
            <a:off x="781200" y="6407280"/>
            <a:ext cx="955440" cy="195120"/>
          </a:xfrm>
          <a:prstGeom prst="rect">
            <a:avLst/>
          </a:prstGeom>
          <a:ln w="0">
            <a:noFill/>
          </a:ln>
        </p:spPr>
      </p:pic>
      <p:pic>
        <p:nvPicPr>
          <p:cNvPr id="248" name="直線矢印コネクタ 29" descr=""/>
          <p:cNvPicPr/>
          <p:nvPr/>
        </p:nvPicPr>
        <p:blipFill>
          <a:blip r:embed="rId6"/>
          <a:stretch/>
        </p:blipFill>
        <p:spPr>
          <a:xfrm>
            <a:off x="1695600" y="6102360"/>
            <a:ext cx="3504960" cy="798480"/>
          </a:xfrm>
          <a:prstGeom prst="rect">
            <a:avLst/>
          </a:prstGeom>
          <a:ln w="0">
            <a:noFill/>
          </a:ln>
        </p:spPr>
      </p:pic>
      <p:pic>
        <p:nvPicPr>
          <p:cNvPr id="249" name="直線矢印コネクタ 35" descr=""/>
          <p:cNvPicPr/>
          <p:nvPr/>
        </p:nvPicPr>
        <p:blipFill>
          <a:blip r:embed="rId7"/>
          <a:stretch/>
        </p:blipFill>
        <p:spPr>
          <a:xfrm>
            <a:off x="4438800" y="5724360"/>
            <a:ext cx="3962160" cy="798840"/>
          </a:xfrm>
          <a:prstGeom prst="rect">
            <a:avLst/>
          </a:prstGeom>
          <a:ln w="0">
            <a:noFill/>
          </a:ln>
        </p:spPr>
      </p:pic>
      <p:sp>
        <p:nvSpPr>
          <p:cNvPr id="250" name="テキスト ボックス 38"/>
          <p:cNvSpPr/>
          <p:nvPr/>
        </p:nvSpPr>
        <p:spPr>
          <a:xfrm>
            <a:off x="75960" y="594360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adcaff"/>
                </a:solidFill>
                <a:latin typeface="Times New Roman"/>
              </a:rPr>
              <a:t>Satellite WG (w/ JAXA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角丸四角形 40"/>
          <p:cNvSpPr/>
          <p:nvPr/>
        </p:nvSpPr>
        <p:spPr>
          <a:xfrm>
            <a:off x="4343400" y="5105520"/>
            <a:ext cx="4343400" cy="1676160"/>
          </a:xfrm>
          <a:prstGeom prst="roundRect">
            <a:avLst>
              <a:gd name="adj" fmla="val 16667"/>
            </a:avLst>
          </a:prstGeom>
          <a:solidFill>
            <a:srgbClr val="3399ff">
              <a:alpha val="50000"/>
            </a:srgbClr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Preparation for a (small)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Launch befor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(Actual plans will depend on many 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26"/>
          <p:cNvSpPr/>
          <p:nvPr/>
        </p:nvSpPr>
        <p:spPr>
          <a:xfrm rot="20750400">
            <a:off x="1420920" y="6337440"/>
            <a:ext cx="625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573F-A6A8-4C94-9DB9-DA5776F2A264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IET: 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Ground-based experiment in Atacama (Ch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Detector: HEM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Innovative “polarimeters on a chip” (JP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Phase I commissioning: summer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90 GHz “W-band”: 91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40 GHz “Q-band”:  19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</a:rPr>
              <a:t>Phase II: ~1000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4" descr="logo_quiet-3"/>
          <p:cNvPicPr/>
          <p:nvPr/>
        </p:nvPicPr>
        <p:blipFill>
          <a:blip r:embed="rId1"/>
          <a:srcRect l="0" t="0" r="37313" b="0"/>
          <a:stretch/>
        </p:blipFill>
        <p:spPr>
          <a:xfrm>
            <a:off x="0" y="0"/>
            <a:ext cx="1143000" cy="1157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site-1_large"/>
          <p:cNvPicPr/>
          <p:nvPr/>
        </p:nvPicPr>
        <p:blipFill>
          <a:blip r:embed="rId2"/>
          <a:srcRect l="28791" t="0" r="0" b="46290"/>
          <a:stretch/>
        </p:blipFill>
        <p:spPr>
          <a:xfrm>
            <a:off x="7010280" y="1828800"/>
            <a:ext cx="170676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trio-2"/>
          <p:cNvPicPr/>
          <p:nvPr/>
        </p:nvPicPr>
        <p:blipFill>
          <a:blip r:embed="rId3"/>
          <a:srcRect l="51150" t="36063" r="0" b="34321"/>
          <a:stretch/>
        </p:blipFill>
        <p:spPr>
          <a:xfrm>
            <a:off x="6629400" y="76320"/>
            <a:ext cx="2438280" cy="1676160"/>
          </a:xfrm>
          <a:prstGeom prst="rect">
            <a:avLst/>
          </a:prstGeom>
          <a:ln w="0">
            <a:noFill/>
          </a:ln>
        </p:spPr>
      </p:pic>
      <p:sp>
        <p:nvSpPr>
          <p:cNvPr id="259" name="Line 8"/>
          <p:cNvSpPr/>
          <p:nvPr/>
        </p:nvSpPr>
        <p:spPr>
          <a:xfrm flipV="1">
            <a:off x="7924680" y="1523520"/>
            <a:ext cx="22860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4" descr=""/>
          <p:cNvPicPr/>
          <p:nvPr/>
        </p:nvPicPr>
        <p:blipFill>
          <a:blip r:embed="rId4"/>
          <a:srcRect l="0" t="-6790" r="13137" b="0"/>
          <a:stretch/>
        </p:blipFill>
        <p:spPr>
          <a:xfrm>
            <a:off x="1111320" y="3954600"/>
            <a:ext cx="3510000" cy="2751120"/>
          </a:xfrm>
          <a:prstGeom prst="rect">
            <a:avLst/>
          </a:prstGeom>
          <a:ln w="0">
            <a:noFill/>
          </a:ln>
        </p:spPr>
      </p:pic>
      <p:sp>
        <p:nvSpPr>
          <p:cNvPr id="261" name="Line 15"/>
          <p:cNvSpPr/>
          <p:nvPr/>
        </p:nvSpPr>
        <p:spPr>
          <a:xfrm flipH="1">
            <a:off x="2747880" y="5481720"/>
            <a:ext cx="27648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316520" y="5948280"/>
            <a:ext cx="1794600" cy="3988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imary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857400" y="3870360"/>
            <a:ext cx="13420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nd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 flipV="1">
            <a:off x="3973680" y="4041720"/>
            <a:ext cx="35856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3589200" y="6093000"/>
            <a:ext cx="887760" cy="3988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225720" y="3718080"/>
            <a:ext cx="15249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ca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Recei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 flipV="1">
            <a:off x="1596600" y="4041720"/>
            <a:ext cx="6476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746280" y="5067360"/>
            <a:ext cx="1427400" cy="7038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 flipV="1">
            <a:off x="2747880" y="3968280"/>
            <a:ext cx="7308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2364120" y="3641760"/>
            <a:ext cx="10281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lat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5"/>
          <a:stretch/>
        </p:blipFill>
        <p:spPr>
          <a:xfrm>
            <a:off x="5319720" y="3876840"/>
            <a:ext cx="3405240" cy="2576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9"/>
          <p:cNvSpPr/>
          <p:nvPr/>
        </p:nvSpPr>
        <p:spPr>
          <a:xfrm>
            <a:off x="4953240" y="6356520"/>
            <a:ext cx="3893040" cy="45972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rrors &amp; Suppor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IET: prospect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74" name="Picture 4" descr="logo_quiet-3"/>
          <p:cNvPicPr/>
          <p:nvPr/>
        </p:nvPicPr>
        <p:blipFill>
          <a:blip r:embed="rId1"/>
          <a:srcRect l="0" t="0" r="37313" b="0"/>
          <a:stretch/>
        </p:blipFill>
        <p:spPr>
          <a:xfrm>
            <a:off x="0" y="0"/>
            <a:ext cx="1504800" cy="1523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477120" cy="4860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752480" y="5883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66"/>
                </a:solidFill>
                <a:latin typeface="Arial"/>
              </a:rPr>
              <a:t>Expect to observe B-mode originating from plausible inflatio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スライド番号プレースホルダ 5"/>
          <p:cNvSpPr/>
          <p:nvPr/>
        </p:nvSpPr>
        <p:spPr>
          <a:xfrm>
            <a:off x="54864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8E6-8B52-4FD8-97AB-FA9F7CE8857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5639040" cy="48196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sensitivities of future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326520" y="5943600"/>
            <a:ext cx="7573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 2: Important to measure low l (down to reionization bum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y to the success: Foreground understanding (astronomical info cru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1295280" y="4952880"/>
            <a:ext cx="2819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1981080" y="510552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8"/>
          <p:cNvSpPr/>
          <p:nvPr/>
        </p:nvSpPr>
        <p:spPr>
          <a:xfrm>
            <a:off x="2091240" y="8380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フリーフォーム 11"/>
          <p:cNvSpPr/>
          <p:nvPr/>
        </p:nvSpPr>
        <p:spPr>
          <a:xfrm>
            <a:off x="1706400" y="2484360"/>
            <a:ext cx="960480" cy="1191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フリーフォーム 12"/>
          <p:cNvSpPr/>
          <p:nvPr/>
        </p:nvSpPr>
        <p:spPr>
          <a:xfrm>
            <a:off x="1523880" y="2809800"/>
            <a:ext cx="868320" cy="23832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テキスト ボックス 13"/>
          <p:cNvSpPr/>
          <p:nvPr/>
        </p:nvSpPr>
        <p:spPr>
          <a:xfrm>
            <a:off x="5867280" y="1219320"/>
            <a:ext cx="30481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mpressive sensitivities from the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gic patches with small foreground (OK for l~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re robust against atmospheric fluctuation t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8"/>
          <p:cNvSpPr/>
          <p:nvPr/>
        </p:nvSpPr>
        <p:spPr>
          <a:xfrm>
            <a:off x="3667320" y="83808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8"/>
          <p:cNvSpPr/>
          <p:nvPr/>
        </p:nvSpPr>
        <p:spPr>
          <a:xfrm>
            <a:off x="5031000" y="8380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~0.2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mall Satellit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280" y="68544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Basic concep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Focus on low l (l &lt; 2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s light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Multi-color bolometers (~1000 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100 m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mall satellite missions at JA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New initi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Payload &lt; 400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1 launch/~2years from ~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lternative: super-pressure balloon (JAX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llow ~100day flights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Willing to have international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テキスト ボックス 4"/>
          <p:cNvSpPr/>
          <p:nvPr/>
        </p:nvSpPr>
        <p:spPr>
          <a:xfrm>
            <a:off x="6106680" y="3363840"/>
            <a:ext cx="26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f. B-pol study (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ryosta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09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Focal plane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 74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Warm electronic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 65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66"/>
                </a:solidFill>
                <a:latin typeface="Times New Roman"/>
              </a:rPr>
              <a:t>KEK Detector Technology Project Clean Room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93" name="Picture 2" descr="D:\hazumi\マイ　ピクチャ\2008\2008Jan-Mar\DSCN1656.JPG"/>
          <p:cNvPicPr/>
          <p:nvPr/>
        </p:nvPicPr>
        <p:blipFill>
          <a:blip r:embed="rId1"/>
          <a:stretch/>
        </p:blipFill>
        <p:spPr>
          <a:xfrm>
            <a:off x="71280" y="1428840"/>
            <a:ext cx="2500560" cy="1874880"/>
          </a:xfrm>
          <a:prstGeom prst="rect">
            <a:avLst/>
          </a:prstGeom>
          <a:ln w="0">
            <a:noFill/>
          </a:ln>
        </p:spPr>
      </p:pic>
      <p:sp>
        <p:nvSpPr>
          <p:cNvPr id="294" name="テキスト ボックス 13"/>
          <p:cNvSpPr/>
          <p:nvPr/>
        </p:nvSpPr>
        <p:spPr>
          <a:xfrm>
            <a:off x="354240" y="714240"/>
            <a:ext cx="18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Experimental hall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which the clean 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</a:rPr>
              <a:t>will be bui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グループ化 36"/>
          <p:cNvGrpSpPr/>
          <p:nvPr/>
        </p:nvGrpSpPr>
        <p:grpSpPr>
          <a:xfrm>
            <a:off x="2214720" y="2895480"/>
            <a:ext cx="6715080" cy="3837240"/>
            <a:chOff x="2214720" y="2895480"/>
            <a:chExt cx="6715080" cy="3837240"/>
          </a:xfrm>
        </p:grpSpPr>
        <p:pic>
          <p:nvPicPr>
            <p:cNvPr id="296" name="Picture 3" descr="D:\hazumi\マイ　ピクチャ\2007\2007Jan-Mar\DSCN0088.jpg"/>
            <p:cNvPicPr/>
            <p:nvPr/>
          </p:nvPicPr>
          <p:blipFill>
            <a:blip r:embed="rId2"/>
            <a:stretch/>
          </p:blipFill>
          <p:spPr>
            <a:xfrm>
              <a:off x="4500720" y="5072040"/>
              <a:ext cx="219060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6" descr="D:\hazumi\マイ　ピクチャ\2007\2007Jan-Mar\DSCN0091.jpg"/>
            <p:cNvPicPr/>
            <p:nvPr/>
          </p:nvPicPr>
          <p:blipFill>
            <a:blip r:embed="rId3"/>
            <a:stretch/>
          </p:blipFill>
          <p:spPr>
            <a:xfrm>
              <a:off x="2214720" y="5072040"/>
              <a:ext cx="221436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" descr=""/>
            <p:cNvPicPr/>
            <p:nvPr/>
          </p:nvPicPr>
          <p:blipFill>
            <a:blip r:embed="rId4"/>
            <a:stretch/>
          </p:blipFill>
          <p:spPr>
            <a:xfrm>
              <a:off x="6729480" y="5036040"/>
              <a:ext cx="2200320" cy="165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9" descr=""/>
            <p:cNvPicPr/>
            <p:nvPr/>
          </p:nvPicPr>
          <p:blipFill>
            <a:blip r:embed="rId5"/>
            <a:stretch/>
          </p:blipFill>
          <p:spPr>
            <a:xfrm>
              <a:off x="7327800" y="2895480"/>
              <a:ext cx="1572840" cy="20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テキスト ボックス 15"/>
            <p:cNvSpPr/>
            <p:nvPr/>
          </p:nvSpPr>
          <p:spPr>
            <a:xfrm>
              <a:off x="2692080" y="4643280"/>
              <a:ext cx="48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Sputtering/Etching machines (~Jul.08 from RIKE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グループ化 34"/>
          <p:cNvGrpSpPr/>
          <p:nvPr/>
        </p:nvGrpSpPr>
        <p:grpSpPr>
          <a:xfrm>
            <a:off x="6816240" y="932040"/>
            <a:ext cx="2256480" cy="1568160"/>
            <a:chOff x="6816240" y="932040"/>
            <a:chExt cx="2256480" cy="1568160"/>
          </a:xfrm>
        </p:grpSpPr>
        <p:pic>
          <p:nvPicPr>
            <p:cNvPr id="302" name="図 16" descr="cleanroom21.jpg"/>
            <p:cNvPicPr/>
            <p:nvPr/>
          </p:nvPicPr>
          <p:blipFill>
            <a:blip r:embed="rId6"/>
            <a:stretch/>
          </p:blipFill>
          <p:spPr>
            <a:xfrm>
              <a:off x="7072200" y="1288800"/>
              <a:ext cx="162432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テキスト ボックス 17"/>
            <p:cNvSpPr/>
            <p:nvPr/>
          </p:nvSpPr>
          <p:spPr>
            <a:xfrm>
              <a:off x="6816240" y="93204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Image of a clean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テキスト ボックス 18"/>
          <p:cNvSpPr/>
          <p:nvPr/>
        </p:nvSpPr>
        <p:spPr>
          <a:xfrm>
            <a:off x="2768040" y="571680"/>
            <a:ext cx="400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Room A: 15m x 10m (Class 1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Room B: 15m x 10m (Class 10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Calibri"/>
              </a:rPr>
              <a:t>Yellow room: 5m x 6m (Class 1000, in Room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グループ化 35"/>
          <p:cNvGrpSpPr/>
          <p:nvPr/>
        </p:nvGrpSpPr>
        <p:grpSpPr>
          <a:xfrm>
            <a:off x="160200" y="3429000"/>
            <a:ext cx="2260800" cy="3214800"/>
            <a:chOff x="160200" y="3429000"/>
            <a:chExt cx="2260800" cy="3214800"/>
          </a:xfrm>
        </p:grpSpPr>
        <p:pic>
          <p:nvPicPr>
            <p:cNvPr id="306" name="図 26" descr="ma20.jpg"/>
            <p:cNvPicPr/>
            <p:nvPr/>
          </p:nvPicPr>
          <p:blipFill>
            <a:blip r:embed="rId7"/>
            <a:stretch/>
          </p:blipFill>
          <p:spPr>
            <a:xfrm>
              <a:off x="571320" y="5357880"/>
              <a:ext cx="12859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テキスト ボックス 14"/>
            <p:cNvSpPr/>
            <p:nvPr/>
          </p:nvSpPr>
          <p:spPr>
            <a:xfrm>
              <a:off x="160200" y="4929120"/>
              <a:ext cx="22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Mask aligner (Mar.0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図 25" descr="1.jpg"/>
            <p:cNvPicPr/>
            <p:nvPr/>
          </p:nvPicPr>
          <p:blipFill>
            <a:blip r:embed="rId8"/>
            <a:stretch/>
          </p:blipFill>
          <p:spPr>
            <a:xfrm>
              <a:off x="285480" y="3786120"/>
              <a:ext cx="14101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テキスト ボックス 30"/>
            <p:cNvSpPr/>
            <p:nvPr/>
          </p:nvSpPr>
          <p:spPr>
            <a:xfrm>
              <a:off x="165960" y="3429000"/>
              <a:ext cx="22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Calibri"/>
                </a:rPr>
                <a:t>0.3K cryostat (Mar.0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グループ化 39"/>
          <p:cNvGrpSpPr/>
          <p:nvPr/>
        </p:nvGrpSpPr>
        <p:grpSpPr>
          <a:xfrm>
            <a:off x="1882800" y="1428840"/>
            <a:ext cx="4832280" cy="2928960"/>
            <a:chOff x="1882800" y="1428840"/>
            <a:chExt cx="4832280" cy="2928960"/>
          </a:xfrm>
        </p:grpSpPr>
        <p:grpSp>
          <p:nvGrpSpPr>
            <p:cNvPr id="311" name="グループ化 38"/>
            <p:cNvGrpSpPr/>
            <p:nvPr/>
          </p:nvGrpSpPr>
          <p:grpSpPr>
            <a:xfrm>
              <a:off x="1882800" y="1428840"/>
              <a:ext cx="4832280" cy="2928960"/>
              <a:chOff x="1882800" y="1428840"/>
              <a:chExt cx="4832280" cy="2928960"/>
            </a:xfrm>
          </p:grpSpPr>
          <p:grpSp>
            <p:nvGrpSpPr>
              <p:cNvPr id="312" name="グループ化 33"/>
              <p:cNvGrpSpPr/>
              <p:nvPr/>
            </p:nvGrpSpPr>
            <p:grpSpPr>
              <a:xfrm>
                <a:off x="1882800" y="1428840"/>
                <a:ext cx="4832280" cy="2928960"/>
                <a:chOff x="1882800" y="1428840"/>
                <a:chExt cx="4832280" cy="2928960"/>
              </a:xfrm>
            </p:grpSpPr>
            <p:pic>
              <p:nvPicPr>
                <p:cNvPr id="313" name="図 19" descr="クリーンルームパース図３.jpg"/>
                <p:cNvPicPr/>
                <p:nvPr/>
              </p:nvPicPr>
              <p:blipFill>
                <a:blip r:embed="rId9"/>
                <a:srcRect l="2131" t="34777" r="3723" b="8487"/>
                <a:stretch/>
              </p:blipFill>
              <p:spPr>
                <a:xfrm>
                  <a:off x="2500200" y="1428840"/>
                  <a:ext cx="4214880" cy="292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フリーフォーム 32"/>
                <p:cNvSpPr/>
                <p:nvPr/>
              </p:nvSpPr>
              <p:spPr>
                <a:xfrm>
                  <a:off x="1882800" y="2071800"/>
                  <a:ext cx="1617480" cy="728640"/>
                </a:xfrm>
                <a:prstGeom prst="pi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グループ化 37"/>
              <p:cNvGrpSpPr/>
              <p:nvPr/>
            </p:nvGrpSpPr>
            <p:grpSpPr>
              <a:xfrm>
                <a:off x="3886560" y="1571400"/>
                <a:ext cx="1807200" cy="2253960"/>
                <a:chOff x="3886560" y="1571400"/>
                <a:chExt cx="1807200" cy="2253960"/>
              </a:xfrm>
            </p:grpSpPr>
            <p:sp>
              <p:nvSpPr>
                <p:cNvPr id="316" name="テキスト ボックス 20"/>
                <p:cNvSpPr/>
                <p:nvPr/>
              </p:nvSpPr>
              <p:spPr>
                <a:xfrm>
                  <a:off x="3886560" y="2571480"/>
                  <a:ext cx="5328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800" spc="-1" strike="noStrike">
                      <a:solidFill>
                        <a:srgbClr val="ffffff"/>
                      </a:solidFill>
                      <a:latin typeface="Calibri"/>
                    </a:rPr>
                    <a:t>A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テキスト ボックス 22"/>
                <p:cNvSpPr/>
                <p:nvPr/>
              </p:nvSpPr>
              <p:spPr>
                <a:xfrm>
                  <a:off x="4591440" y="1571400"/>
                  <a:ext cx="513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800" spc="-1" strike="noStrike">
                      <a:solidFill>
                        <a:srgbClr val="ffffff"/>
                      </a:solidFill>
                      <a:latin typeface="Calibri"/>
                    </a:rPr>
                    <a:t>B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テキスト ボックス 23"/>
                <p:cNvSpPr/>
                <p:nvPr/>
              </p:nvSpPr>
              <p:spPr>
                <a:xfrm>
                  <a:off x="5215680" y="3000240"/>
                  <a:ext cx="4780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4800" spc="-1" strike="noStrike">
                      <a:solidFill>
                        <a:srgbClr val="ffffff"/>
                      </a:solidFill>
                      <a:latin typeface="Calibri"/>
                    </a:rPr>
                    <a:t>Y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フリーフォーム 21"/>
            <p:cNvSpPr/>
            <p:nvPr/>
          </p:nvSpPr>
          <p:spPr>
            <a:xfrm>
              <a:off x="4923000" y="2760840"/>
              <a:ext cx="1733400" cy="1058760"/>
            </a:xfrm>
            <a:prstGeom prst="pie">
              <a:avLst/>
            </a:prstGeom>
            <a:solidFill>
              <a:srgbClr val="ffff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グループ化 40"/>
          <p:cNvGrpSpPr/>
          <p:nvPr/>
        </p:nvGrpSpPr>
        <p:grpSpPr>
          <a:xfrm>
            <a:off x="3214800" y="1714680"/>
            <a:ext cx="3071880" cy="2000160"/>
            <a:chOff x="3214800" y="1714680"/>
            <a:chExt cx="3071880" cy="2000160"/>
          </a:xfrm>
        </p:grpSpPr>
        <p:pic>
          <p:nvPicPr>
            <p:cNvPr id="321" name="Picture 6" descr="D:\hazumi\マイ　ピクチャ\2007\2007Jan-Mar\DSCN0091.jpg"/>
            <p:cNvPicPr/>
            <p:nvPr/>
          </p:nvPicPr>
          <p:blipFill>
            <a:blip r:embed="rId10"/>
            <a:stretch/>
          </p:blipFill>
          <p:spPr>
            <a:xfrm>
              <a:off x="3214800" y="2714760"/>
              <a:ext cx="64296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" descr="D:\hazumi\マイ　ピクチャ\2007\2007Jan-Mar\DSCN0088.jpg"/>
            <p:cNvPicPr/>
            <p:nvPr/>
          </p:nvPicPr>
          <p:blipFill>
            <a:blip r:embed="rId11"/>
            <a:stretch/>
          </p:blipFill>
          <p:spPr>
            <a:xfrm>
              <a:off x="3786120" y="2286000"/>
              <a:ext cx="57132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8" descr=""/>
            <p:cNvPicPr/>
            <p:nvPr/>
          </p:nvPicPr>
          <p:blipFill>
            <a:blip r:embed="rId12"/>
            <a:stretch/>
          </p:blipFill>
          <p:spPr>
            <a:xfrm>
              <a:off x="4286160" y="2500560"/>
              <a:ext cx="714240" cy="5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図 25" descr="1.jpg"/>
            <p:cNvPicPr/>
            <p:nvPr/>
          </p:nvPicPr>
          <p:blipFill>
            <a:blip r:embed="rId13"/>
            <a:stretch/>
          </p:blipFill>
          <p:spPr>
            <a:xfrm>
              <a:off x="5143680" y="1714680"/>
              <a:ext cx="64296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図 26" descr="ma20.jpg"/>
            <p:cNvPicPr/>
            <p:nvPr/>
          </p:nvPicPr>
          <p:blipFill>
            <a:blip r:embed="rId14"/>
            <a:stretch/>
          </p:blipFill>
          <p:spPr>
            <a:xfrm>
              <a:off x="5715360" y="31435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9" descr=""/>
            <p:cNvPicPr/>
            <p:nvPr/>
          </p:nvPicPr>
          <p:blipFill>
            <a:blip r:embed="rId15"/>
            <a:stretch/>
          </p:blipFill>
          <p:spPr>
            <a:xfrm>
              <a:off x="4401360" y="3060360"/>
              <a:ext cx="40824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conducting detector R&amp;D for the fu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07 ~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20"/>
          <p:cNvSpPr/>
          <p:nvPr/>
        </p:nvSpPr>
        <p:spPr>
          <a:xfrm>
            <a:off x="1143000" y="4522680"/>
            <a:ext cx="6934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t of activities inside the KEK Detector Technology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MB as an important application, but not ex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rrent targ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ure Al STJ sensors for ultra-fast/large-dynamic range mm-wave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oint R&amp;D on TES with UC Berkeley/LBNL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4"/>
          <a:stretch/>
        </p:blipFill>
        <p:spPr>
          <a:xfrm>
            <a:off x="304920" y="281952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333" name="テキスト ボックス 13"/>
          <p:cNvSpPr/>
          <p:nvPr/>
        </p:nvSpPr>
        <p:spPr>
          <a:xfrm>
            <a:off x="5957280" y="685800"/>
            <a:ext cx="2239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effor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KEN, TIT, Toh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14"/>
          <p:cNvSpPr/>
          <p:nvPr/>
        </p:nvSpPr>
        <p:spPr>
          <a:xfrm rot="20278200">
            <a:off x="5990760" y="62323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図 16" descr="写真４_#24_100_1(LM)_R1k_B0.05A.JPG"/>
          <p:cNvPicPr/>
          <p:nvPr/>
        </p:nvPicPr>
        <p:blipFill>
          <a:blip r:embed="rId5"/>
          <a:stretch/>
        </p:blipFill>
        <p:spPr>
          <a:xfrm>
            <a:off x="5257800" y="16002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0:54:48Z</dcterms:created>
  <dc:creator>野崎 光昭</dc:creator>
  <dc:description/>
  <dc:language>en-US</dc:language>
  <cp:lastModifiedBy>野崎 光昭</cp:lastModifiedBy>
  <dcterms:modified xsi:type="dcterms:W3CDTF">2008-05-17T15:43:45Z</dcterms:modified>
  <cp:revision>10</cp:revision>
  <dc:subject/>
  <dc:title>New Programs</dc:title>
</cp:coreProperties>
</file>