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453-8072-4C69-A255-5B7E5EC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AEA-78BC-4DFD-9715-64A01CC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49D-75A7-4DB4-B155-879316C7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2B4-5308-4137-A7D9-69C9D46A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1E7-FFEA-49E7-A7D5-4E0604C7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BC5-9D55-4F41-83CA-28CAC104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BFD-7415-4194-847D-234D80F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5A2-D33B-4F28-8FDA-87DE4258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9A0-96FB-457B-A110-23E9E1E7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486-C0EC-4119-8F2E-4525961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F78-D97A-44FC-94B0-392D7A7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638-7C9E-4862-9E04-C6A0635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4 MOST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s Perret-Gall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a-Pacific Co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38D-BB55-4C02-B08D-7400DF1CF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6858000" y="0"/>
          <a:ext cx="22860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0"/>
                    <a:ext cx="22860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pp.in2p3.fr/cgi-bin/twiki/bin/view/FKPPL/WebHom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38280" y="1219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4419720"/>
            <a:ext cx="55818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ternational Associated Laborator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HC, ILC and Particle Physic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3048120"/>
            <a:ext cx="345276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rance-Kore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47246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RS- IN2P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ional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 fo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entific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only a funding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Budge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 (including sala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,0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manent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6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earc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,4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ngineers and technical sta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research departments (all fiel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ational institutes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2P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earch and service unit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 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joint laboratories)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trong connections with universities and other research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largest research organization i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2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ional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titute fo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clea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sics 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s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Budge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 (no sala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48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permanent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9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9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gineers and technical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atories in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en Par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n French region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-IN2P3, LAPP close to C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ing Center CC-IN2P3 in 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nil (Ion Accelerator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 ground lab.,  Mod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C conception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15080" y="571500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rance: CERN Host Country, Budget 2005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8 M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106400">
            <a:off x="2437920" y="2209680"/>
            <a:ext cx="2514600" cy="486000"/>
          </a:xfrm>
          <a:prstGeom prst="rightArrow">
            <a:avLst>
              <a:gd name="adj1" fmla="val 27241"/>
              <a:gd name="adj2" fmla="val 103697"/>
            </a:avLst>
          </a:prstGeom>
          <a:solidFill>
            <a:srgbClr val="bbe0e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8492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5410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Joint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rench IN2P3 labs, Univ. Other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of Korean Universities, Lab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r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ccess to France and Europ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ccess to Korean and Asia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search field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-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beyond the simple researcher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projects nee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er visi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ur countries an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earch teams in France and in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untry manages its ow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2514600"/>
            <a:ext cx="21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 points for extended collabo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5105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-Korea LIA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HC-ILC and Particle Physic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K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oup several existing collabo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lice)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uting, BioInformatics, basic nuclea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llaborations may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H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CMS,…), phenomenology, astroparticles, neutrin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mmon tools (GR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: 50-100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/count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nb of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Computing: 4-5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Korean Tier-2 in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pp.in2p3.fr/cgi-bin/twiki/bin/view/FKPPL/Web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 organ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-directors (one French, one Kor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ring Committee (2*6 representa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th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projects are fin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workshop/year (Korean and Fr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6-10-24T08:08:1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