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204-4A84-4CC0-8F98-F1176FA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011-5C5F-41CF-A120-F5F764D0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C4B-3020-4059-9C74-AA70756D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ADB-38D9-4E01-9C01-5B9B9213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ADA-B8CD-47A9-A422-4271B623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38F-F139-40A5-84C4-77529B8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042-262C-4841-A8D6-8A1E4E2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4E7-F28A-4590-AC8B-EAE8E7F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710-F54C-429F-91D1-93E870A9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7AF-473A-4844-AB0B-5592377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DB2-D31A-481B-9794-C7C890E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AD1-8254-4365-BD5B-8BF29BA2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 24 MOST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is Perret-Gall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a-Pacific Co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CBF-9B72-484D-A896-4F6613AFD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6858000" y="0"/>
          <a:ext cx="22860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0"/>
                    <a:ext cx="22860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pp.in2p3.fr/cgi-bin/twiki/bin/view/FKPPL/WebHom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38280" y="12193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4419720"/>
            <a:ext cx="55818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ternational Associated Laborator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HC, ILC and Particle Physic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3048120"/>
            <a:ext cx="345276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rance-Kore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47246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RS- IN2P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 f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entific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only a funding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Budge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 (including sal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,0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manent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6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earc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,4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ngineers and technical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research departments (all fiel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ational institutes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2P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N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earch and service unit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 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joint laboratories)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trong connections with universities and other research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largest research organization i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2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ional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titute fo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clear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sics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icl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s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Budge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 (no sala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48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ermanent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9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69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gineers and technical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boratories in F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en Par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In French region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C-IN2P3, LAPP close to C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ing Center CC-IN2P3 in Ly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nil (Ion Accelerator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 ground lab.,  Mod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C conception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15080" y="571500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rance: CERN Host Country, Budget 2005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 M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106400">
            <a:off x="2437920" y="2209680"/>
            <a:ext cx="2514600" cy="486000"/>
          </a:xfrm>
          <a:prstGeom prst="rightArrow">
            <a:avLst>
              <a:gd name="adj1" fmla="val 27241"/>
              <a:gd name="adj2" fmla="val 103697"/>
            </a:avLst>
          </a:prstGeom>
          <a:solidFill>
            <a:srgbClr val="bbe0e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8492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5410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Joint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rench IN2P3 labs, Univ. Other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of Korean Universities, Lab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rr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bora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ess to France and Europ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ccess to Korean and Asia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search field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-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beyond the simple researcher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projects nee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er visi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ur countries an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arch teams in France and in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untry manages its ow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2514600"/>
            <a:ext cx="21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points for extended collabo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5105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-Korea LIA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HC-ILC and Particle Physics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K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oup several existing collabo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lice)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uting, BioInformatics, basic nuclear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llaborations may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H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CMS,…), phenomenology, astroparticles, neutrino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ommon tools (GR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: 50-100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/count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nb of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Computing: 4-500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Korean Tier-2 in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pp.in2p3.fr/cgi-bin/twiki/bin/view/FKPPL/Web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A organiz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-directors (one French, one Kor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ring Committee (2*6 represent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th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projects are fin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orkshop/year (Korean and Fr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ret-Gallix</cp:lastModifiedBy>
  <dcterms:modified xsi:type="dcterms:W3CDTF">2006-10-24T08:08:1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