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3.wmf" ContentType="image/x-wmf"/>
  <Override PartName="/ppt/media/image10.wmf" ContentType="image/x-wmf"/>
  <Override PartName="/ppt/media/image2.png" ContentType="image/png"/>
  <Override PartName="/ppt/media/image20.jpeg" ContentType="image/jpe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29.jpeg" ContentType="image/jpeg"/>
  <Override PartName="/ppt/media/image5.png" ContentType="image/png"/>
  <Override PartName="/ppt/media/image9.wmf" ContentType="image/x-wmf"/>
  <Override PartName="/ppt/media/image30.wmf" ContentType="image/x-wmf"/>
  <Override PartName="/ppt/media/image31.wmf" ContentType="image/x-wmf"/>
  <Override PartName="/ppt/media/image25.png" ContentType="image/png"/>
  <Override PartName="/ppt/media/image19.jpeg" ContentType="image/jpeg"/>
  <Override PartName="/ppt/media/image32.jpeg" ContentType="image/jpeg"/>
  <Override PartName="/ppt/media/image26.jpeg" ContentType="image/jpeg"/>
  <Override PartName="/ppt/media/image6.png" ContentType="image/png"/>
  <Override PartName="/ppt/media/image14.wmf" ContentType="image/x-wmf"/>
  <Override PartName="/ppt/media/image3.png" ContentType="image/png"/>
  <Override PartName="/ppt/media/image17.jpeg" ContentType="image/jpeg"/>
  <Override PartName="/ppt/media/image1.jpeg" ContentType="image/jpeg"/>
  <Override PartName="/ppt/media/image1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588-1854-4088-8D2E-BD283E77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64B-D50D-438B-9906-5E2E6BCF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187-0D31-40C9-B1D7-F118148A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C6E-9DBA-4947-AB89-56AC5D87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8B1-45BB-4054-8866-EA43988E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1F0-60DC-43BE-8F60-AC2D59C8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289-43DD-4033-864E-140D5FE7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8D6-C7EB-49E1-9E1B-89914F9E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562-0CC1-4FD4-9EB5-806048B3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18E-1306-4C07-9BE9-57B02030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028-C6E6-4096-8B41-F177E408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0B3-F251-4BA2-826E-21A1D172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FA meeti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ijing Feb.4-7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is Perret-Gall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2P3-K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F234-7D1E-4F74-924C-529DA3153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oinc.berkeley.edu/" TargetMode="External"/><Relationship Id="rId2" Type="http://schemas.openxmlformats.org/officeDocument/2006/relationships/hyperlink" Target="http://setiathome.berkeley.edu/" TargetMode="External"/><Relationship Id="rId3" Type="http://schemas.openxmlformats.org/officeDocument/2006/relationships/hyperlink" Target="http://acpp.in2p3.fr/cgi-bin/twiki/bin/view/Feynman/WebHome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5.ocn.ne.jp/%7Emidorino/artclips/yoke.gif&amp;imgrefurl=http://www5.ocn.ne.jp/%7Emidorino/backnumbers/file3.htm&amp;h=247&amp;w=366&amp;sz=9&amp;tbnid=uWuN652SrPMJ:&amp;tbnh=79&amp;tbnw=117&amp;hl=en&amp;start=7&amp;prev=/images%3Fq%3Dyoke%26hl%3Den%26lr%3D%26sa%3D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304920"/>
            <a:ext cx="72392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mulate with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RACE 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8051760" y="65311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lackadder ITC"/>
              </a:rPr>
              <a:t>M. Wer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324480" y="4800240"/>
            <a:ext cx="2819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. Perret-Gall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JP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2P3-CNRS/K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nami-Tateya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624852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l dri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Build and manage configuration and parame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edition of XML files through  XML editor/viewer 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may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Build and manage a directory tree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ations (sets of parame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Build the parameter dependent GRA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eg/sp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 binaries No input file. Parameters hardwired (GRACE poli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Automates the Interface to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ythia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DF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irce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 (Beamstrahl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Spring-&gt; Pythi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s the supporting Pythia (upinit and upevent cod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Run and manage the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run on user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mit jobs to Supercomp, the GRID or Feynman@Home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(PBS/L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Analyze/display the output, keep track of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through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to Root: plots and ntuples fo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Store all codes and results in a directory tree </a:t>
            </a:r>
            <a:r>
              <a:rPr b="1" lang="en-US" sz="2000" spc="-1" strike="noStrike">
                <a:solidFill>
                  <a:srgbClr val="ff505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 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670536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 driven code modification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s and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200400" cy="2590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it.t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= [% w 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57600" y="1905120"/>
            <a:ext cx="403848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: defa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&gt; 250.D0 &lt;/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838080"/>
            <a:ext cx="4267440" cy="734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it.f, setmas.f, gfinit.f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in kinit.f:     w = 250.D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60120" y="2895480"/>
            <a:ext cx="2856960" cy="73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: User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w&gt; 500.D0 &lt;/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1371600"/>
            <a:ext cx="100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24680" y="3962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37520" y="3886200"/>
            <a:ext cx="3211920" cy="459720"/>
          </a:xfrm>
          <a:prstGeom prst="rect">
            <a:avLst/>
          </a:prstGeom>
          <a:solidFill>
            <a:srgbClr val="99cc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: configuratio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4800600"/>
            <a:ext cx="1904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5562720"/>
            <a:ext cx="15940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kinit.f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70000" y="54864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,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590920" y="1600200"/>
            <a:ext cx="38088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600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534520" y="28195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086240" y="411480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114800" y="4343400"/>
            <a:ext cx="99072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4419720"/>
            <a:ext cx="175284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52578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571500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25360" y="55227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571500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29200" y="4572000"/>
            <a:ext cx="38289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 changes to Grace co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48769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Tree for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704880"/>
            <a:ext cx="7391520" cy="55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48769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Tree for Running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561960"/>
            <a:ext cx="7239240" cy="62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s in XML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5050"/>
                </a:solidFill>
                <a:latin typeface="Arial"/>
              </a:rPr>
              <a:t>Single 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1&gt; x &lt;/p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can be a number (or a Fortran expression using Grace variables (for expert onl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505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1&gt; xmin : xmax : step ; order &lt;/p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: 0…4  (0 inner lo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5050"/>
                </a:solidFill>
                <a:latin typeface="Arial"/>
              </a:rPr>
              <a:t>List:</a:t>
            </a:r>
            <a:r>
              <a:rPr b="1" i="1" lang="en-US" sz="20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1&gt; x1, x2, ….., x3 ; order &lt;/p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at most 5 (Range +List)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1&gt;  250.d0  &lt;/p1&gt;    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Singl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1&gt; 250.:400.:10.;0 &lt;/p1&gt;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from 250. to 400. by step of 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1&gt; 250.,300.,1000.,2000.;1 &lt;/p1&gt;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list of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315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486400" y="228600"/>
            <a:ext cx="25146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+ e-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t, 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6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XML default parameter file build by Grac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81480" y="1447920"/>
            <a:ext cx="3276720" cy="452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gz&gt; 2.49D0 &lt;/agz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gh&gt; 100.0D0 &lt;/ag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gx&gt; AGW &lt;/agx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gy&gt; AGZ &lt;/ag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s1&gt; 0 &lt;/jhs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e1&gt; lextrn - 1 &lt;/jhe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s2&gt; 0 &lt;/jhs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e2&gt; lextrn - 1 &lt;/jhe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s3&gt; 0 &lt;/jhs3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e3&gt; lepexa - 1 &lt;/jhe3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s4&gt; 0 &lt;/jhs4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e4&gt; lepexa - 1 &lt;/jhe4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gluon &gt; 1 &lt;/jgluon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jhiggs &gt; 1 &lt;/jhiggs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op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295280"/>
            <a:ext cx="4267080" cy="5088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op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1&gt; 250.d0 &lt;/p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2&gt; 250.d0 &lt;/p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oscut1&gt; -1 &lt;/coscut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oscut2&gt;  1 &lt;/coscut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icost&gt; 0 &lt;/icos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itmx1&gt; 5 &lt;/itmx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itmx2&gt; 5 &lt;/itmx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call&gt; 5000 &lt;/nca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i&gt; acos(- 1.0d0 ) &lt;/p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i2&gt; pi * pi &lt;/pi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rad&gt; pi / 180.0d0 &lt;/r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gevpb&gt; 0.38937966d9 &lt;/gevp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lpha&gt; 1.0d0/128.07d0 &lt;/alph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lpha0&gt; 1.0d0/137.0359895d0 &lt;/alpha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lphas&gt; 0.12d0 &lt;/alpha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mw&gt; 80.22D0 &lt;/amw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mz&gt; 91.187D0 &lt;/amz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ma&gt; 0.0D0 &lt;/a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13920" cy="6543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469560" y="1295280"/>
            <a:ext cx="254916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W: 500 -&gt; 1000 step 100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0040" y="2286000"/>
            <a:ext cx="219564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cos(</a:t>
            </a:r>
            <a:r>
              <a:rPr b="0" lang="el-GR" sz="1400" spc="-1" strike="noStrike">
                <a:solidFill>
                  <a:srgbClr val="ff5050"/>
                </a:solidFill>
                <a:latin typeface="Arial"/>
                <a:ea typeface="Arial"/>
              </a:rPr>
              <a:t>θ</a:t>
            </a:r>
            <a:r>
              <a:rPr b="0" lang="en-US" sz="1400" spc="-1" strike="noStrike">
                <a:solidFill>
                  <a:srgbClr val="ff5050"/>
                </a:solidFill>
                <a:latin typeface="Arial"/>
                <a:ea typeface="Arial"/>
              </a:rPr>
              <a:t>): -1 -&gt; -0.1 step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96800" y="1752480"/>
            <a:ext cx="47808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400800" y="1600200"/>
            <a:ext cx="380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6400440" y="205704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513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019920" y="152280"/>
            <a:ext cx="28954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+ e-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t, 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rac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 Automatic Computation System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loop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 and MS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or of “event generato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s/Spring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t LEP I, II and targeting LHC, ILC physics and astro-particle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Developed by the Minami-Tateya Group (based in K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to the “Les Houches Accor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 to other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cft, a new fast EW tree level Grac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Grace 1-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-Per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ready more than 5000 Perl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ynman@hom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onteer Computing For Particle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NC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Distributed Public Comp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keley Open Infrastructure for Network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oinc.berkeley.ed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up of SETI@HOM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etiathome.berkeley.ed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ynman@H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acpp.in2p3.fr/cgi-bin/twiki/bin/view/Feynman/Web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-547560" y="38160"/>
            <a:ext cx="10239120" cy="67816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432240" y="0"/>
            <a:ext cx="2964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redit=1/100 cpu PC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990720"/>
            <a:ext cx="2286000" cy="609480"/>
          </a:xfrm>
          <a:prstGeom prst="wedgeRoundRectCallout">
            <a:avLst>
              <a:gd name="adj1" fmla="val 64444"/>
              <a:gd name="adj2" fmla="val 1325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2 M CPU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228600"/>
            <a:ext cx="2819520" cy="1219320"/>
          </a:xfrm>
          <a:prstGeom prst="wedgeRoundRectCallout">
            <a:avLst>
              <a:gd name="adj1" fmla="val -87893"/>
              <a:gd name="adj2" fmla="val 8398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8,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Hours/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000 CPUs ful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80" y="533520"/>
            <a:ext cx="1499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. 30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65040" y="457200"/>
            <a:ext cx="129636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5943600" cy="3919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662840" y="1712880"/>
            <a:ext cx="142416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2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96920" y="798480"/>
            <a:ext cx="14990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 30 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01400" y="4800600"/>
            <a:ext cx="489600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CPU power: 20,000 CPU and g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reliability: redundant compu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for time critical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69760" y="4267080"/>
            <a:ext cx="306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mentary to the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15560" y="609480"/>
            <a:ext cx="107244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22 M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13400" y="304920"/>
            <a:ext cx="104040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Arial"/>
              </a:rPr>
              <a:t>914 K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67752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ynman@Hom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a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762760" cy="4495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Target and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or/and Organization (KEK, IHEP, … Companies…)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section first then event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Two appl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Small execut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.e.: 2-&gt;2,3,4 (100-1000 diag.) 100-500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et of processes/ many different paramet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multi dimensional parameter phase space exploration (MSS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Huge execut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.e.: 2-&gt;5…8, 1-loop (5,000-100,000 diag.) 10-50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lit the binaries into 100 small subsets each of 100-500 M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subset run in // on client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rver run the integration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each iteration generate a new set of phase space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Hybrid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BOINC + cluster/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balancing private cluster or the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ynman@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, KEK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ERN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ynman@home server operational in KE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K intranet,  no HEP application running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Outrea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romoting LC and particle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04920" y="25560"/>
            <a:ext cx="8381880" cy="6832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 rot="20220000">
            <a:off x="761760" y="2133720"/>
            <a:ext cx="80769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On each client scr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52280"/>
            <a:ext cx="8229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gh precis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rithmetic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1752480"/>
            <a:ext cx="877248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DP (Beyond Double Prec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adruple/octuple precision i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rrect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ster algorit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ut software implementations are too s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hardware/software development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4864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imple Example</a:t>
            </a:r>
            <a:br>
              <a:rPr sz="4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by J. Fujimoto (K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477280" cy="499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 = 333.75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+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1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121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2) + 5.5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+ a/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a=77617.0, b=33096.0.     (C. Hu, S. Xu and X. Ya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Pr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.172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3940053178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druple precision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.172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394005317863185883490452018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ytical result = - 54767/661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0.8273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59946821368141165095479813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Octuple precision library,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H3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0.8273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599468213681411650954798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st bi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12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77120" y="1219320"/>
            <a:ext cx="228600" cy="2819160"/>
          </a:xfrm>
          <a:prstGeom prst="downArrow">
            <a:avLst>
              <a:gd name="adj1" fmla="val 50000"/>
              <a:gd name="adj2" fmla="val 30830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066680"/>
            <a:ext cx="1143000" cy="914400"/>
          </a:xfrm>
          <a:prstGeom prst="flowChartPunchedCard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86200"/>
            <a:ext cx="762012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762120"/>
            <a:ext cx="25909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952880"/>
            <a:ext cx="281916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2006640"/>
            <a:ext cx="25909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5715000"/>
            <a:ext cx="312444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609480"/>
            <a:ext cx="1295640" cy="609840"/>
          </a:xfrm>
          <a:prstGeom prst="hexagon">
            <a:avLst>
              <a:gd name="adj" fmla="val 53114"/>
              <a:gd name="vf" fmla="val 11547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685800"/>
            <a:ext cx="1143000" cy="533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1447920"/>
            <a:ext cx="99072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11430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68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68580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de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762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agram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1981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mplitud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362320"/>
            <a:ext cx="1295280" cy="533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038480"/>
            <a:ext cx="1752840" cy="533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4038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brar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ANEL,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inematics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0384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038480"/>
            <a:ext cx="2361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0384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inematics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038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137160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3716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agram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2133720"/>
            <a:ext cx="1676160" cy="685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5715000"/>
            <a:ext cx="2209680" cy="6858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5638680"/>
            <a:ext cx="1676520" cy="685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952880"/>
            <a:ext cx="12189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2057400"/>
            <a:ext cx="533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9528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vergenc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2057400"/>
            <a:ext cx="60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ke file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2895480"/>
            <a:ext cx="1828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28954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ymbolic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819520"/>
            <a:ext cx="2743200" cy="8380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3276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DUCE, Form  et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532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S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1371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952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SES(MC integ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RING (EG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10666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19810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895480"/>
            <a:ext cx="228600" cy="1143000"/>
          </a:xfrm>
          <a:prstGeom prst="downArrow">
            <a:avLst>
              <a:gd name="adj1" fmla="val 50000"/>
              <a:gd name="adj2" fmla="val 195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219320"/>
            <a:ext cx="6098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1828800"/>
            <a:ext cx="6098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4724280"/>
            <a:ext cx="60948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2438280"/>
            <a:ext cx="6098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2438280"/>
            <a:ext cx="304920" cy="1676520"/>
          </a:xfrm>
          <a:prstGeom prst="downArrow">
            <a:avLst>
              <a:gd name="adj1" fmla="val 50000"/>
              <a:gd name="adj2" fmla="val 1374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1447920"/>
            <a:ext cx="1981080" cy="228600"/>
          </a:xfrm>
          <a:prstGeom prst="rightArrow">
            <a:avLst>
              <a:gd name="adj1" fmla="val 50000"/>
              <a:gd name="adj2" fmla="val 21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1752480"/>
            <a:ext cx="60948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83808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83808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4952880"/>
            <a:ext cx="990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49528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ameter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41008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472428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50292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50292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5867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213372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ＤＦPOP体"/>
                <a:ea typeface="ＤＦPOP体"/>
              </a:rPr>
              <a:t>Diagra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ＤＦPOP体"/>
                <a:ea typeface="ＤＦPOP体"/>
              </a:rPr>
              <a:t>(fig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5791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ＤＦPOP体"/>
                <a:ea typeface="ＤＦPOP体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71500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ＤＦPOP体"/>
                <a:ea typeface="ＤＦPOP体"/>
              </a:rPr>
              <a:t>Cross sections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743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21337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438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276720"/>
            <a:ext cx="609840" cy="76176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228600"/>
            <a:ext cx="1455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ＭＳ Ｐゴシック"/>
              </a:rPr>
              <a:t>GR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3581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FORTRAN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54100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808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fin   .mdl   .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5040" y="6400800"/>
            <a:ext cx="193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ami-Tateya (K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ual applicatio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J. Fujimoto K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356000" y="1557360"/>
                <a:ext cx="270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τ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252360" y="1844640"/>
            <a:ext cx="3456000" cy="3267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64000" y="2421000"/>
            <a:ext cx="52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druple precision is required in some phase space points due to the Gram deter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020000" y="3933720"/>
                <a:ext cx="720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635280" y="5013360"/>
                <a:ext cx="446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140360" y="5300640"/>
            <a:ext cx="46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ppens in the re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9640" y="2637000"/>
                <a:ext cx="3603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39640" y="3860640"/>
                <a:ext cx="4431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044000" y="198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484360" y="3141720"/>
                <a:ext cx="792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50920" y="5229360"/>
                <a:ext cx="4525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468360" y="508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619280" y="5157720"/>
                <a:ext cx="325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611640" y="56610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s of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19640" y="450864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838080"/>
            <a:ext cx="48736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1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 -1.49368718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2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x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8611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2424926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00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y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86785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0067264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00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3979977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791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**2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1.364720269462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*x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2.708863236843683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0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*y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3.048903558925384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0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**3]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9376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267279972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3684600"/>
            <a:ext cx="8713800" cy="26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1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493687182387775120623075398820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x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861114708877389206553392789958382E-0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y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867852585600575199171661642779842E-0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397997754965360424642896741541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**2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1.34746346742190735627641191119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*x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334744118868393382280835719751654E-0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*y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822377826411337874789947823777159E-0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[w**3]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.6038937848214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9864804548834918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01400" y="457200"/>
            <a:ext cx="2446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05360" y="3206880"/>
            <a:ext cx="2905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druple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4820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219640" y="404640"/>
                <a:ext cx="36766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527740873578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311226509359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κ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766296511637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t xml:space="preserve">κ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107644680032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5268960" y="278280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low up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79840" y="30211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97000" y="632448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J. Fujim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rcRect l="0" t="0" r="51602" b="0"/>
          <a:stretch/>
        </p:blipFill>
        <p:spPr>
          <a:xfrm>
            <a:off x="1601640" y="920880"/>
            <a:ext cx="5642280" cy="46465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458440" y="34128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inimization algorithm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66160" y="5486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Gambolatin et al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76760" y="2368440"/>
            <a:ext cx="950760" cy="144720"/>
          </a:xfrm>
          <a:prstGeom prst="leftRightArrow">
            <a:avLst>
              <a:gd name="adj1" fmla="val 50000"/>
              <a:gd name="adj2" fmla="val 1307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198756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i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74520" y="27036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63800" y="35956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Qu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928880" y="120600"/>
            <a:ext cx="471168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"new" dimens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system performan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1981080"/>
            <a:ext cx="70102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85880" y="164952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  <a:ea typeface="HGPSoeiKakupoptai"/>
              </a:rPr>
              <a:t>CPU bandwidth (Gh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75480" y="301788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Memory size (Gby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4029120" y="1696680"/>
            <a:ext cx="9360" cy="19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038480" y="2743200"/>
            <a:ext cx="2590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3657600"/>
            <a:ext cx="1600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1736640" y="2827440"/>
            <a:ext cx="2286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6000" y="2435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Interconnection bandwidth (Gh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6120" y="5342040"/>
            <a:ext cx="33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pperplate Gothic Bold"/>
              </a:rPr>
              <a:t>Floating point </a:t>
            </a:r>
            <a:r>
              <a:rPr b="0" lang="en-US" sz="1400" spc="-1" strike="noStrike">
                <a:solidFill>
                  <a:srgbClr val="ff0000"/>
                </a:solidFill>
                <a:latin typeface="Copperplate Gothic Bold"/>
              </a:rPr>
              <a:t>precision</a:t>
            </a:r>
            <a:r>
              <a:rPr b="1" lang="en-US" sz="1400" spc="-1" strike="noStrike">
                <a:solidFill>
                  <a:srgbClr val="ff0000"/>
                </a:solidFill>
                <a:latin typeface="Copperplate Gothic Bold"/>
              </a:rPr>
              <a:t> (4-32 by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437920" y="3657600"/>
            <a:ext cx="1600200" cy="1600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16200" y="5369040"/>
            <a:ext cx="22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Instruction size (64 bit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136600" y="228600"/>
            <a:ext cx="4111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ftware approach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160020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1981080"/>
            <a:ext cx="70102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360" y="990720"/>
            <a:ext cx="647460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igh precision libraries quadruple/octuple (Hitatch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ouble-double, quad-double (Arpr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ulti-precision lib. (1000 digits and m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nterval arithm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act arithmetic (XR, iR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inpack double/quad:  </a:t>
            </a:r>
            <a:r>
              <a:rPr b="0" lang="en-US" sz="2000" spc="-1" strike="noStrike">
                <a:solidFill>
                  <a:srgbClr val="ff5050"/>
                </a:solidFill>
                <a:latin typeface="Century Schoolbook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905120" y="3352680"/>
            <a:ext cx="4371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rdware developm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/>
          <p:nvPr/>
        </p:nvSpPr>
        <p:spPr>
          <a:xfrm>
            <a:off x="704160" y="4876920"/>
            <a:ext cx="77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gh precision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ithmetic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rallel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ocessor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023280" y="5257800"/>
            <a:ext cx="5815800" cy="1389240"/>
            <a:chOff x="3023280" y="5257800"/>
            <a:chExt cx="5815800" cy="1389240"/>
          </a:xfrm>
        </p:grpSpPr>
        <p:pic>
          <p:nvPicPr>
            <p:cNvPr id="28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781680" y="5257800"/>
              <a:ext cx="205740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3023280" y="5727600"/>
              <a:ext cx="40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ranklin Gothic Book"/>
                </a:rPr>
                <a:t>Pulling heavy computations !!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00120" y="4075200"/>
            <a:ext cx="71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CELL processor (IBM,Sony,Toshiba) complex progr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ing other pos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ce Simulatio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Gra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producing tools for </a:t>
            </a:r>
            <a:r>
              <a:rPr b="0" i="1" lang="en-US" sz="2000" spc="-1" strike="noStrike">
                <a:solidFill>
                  <a:srgbClr val="ff5050"/>
                </a:solidFill>
                <a:latin typeface="Arial"/>
              </a:rPr>
              <a:t>tre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5050"/>
                </a:solidFill>
                <a:latin typeface="Arial"/>
              </a:rPr>
              <a:t>one-lo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3399"/>
                </a:solidFill>
                <a:latin typeface="Arial"/>
              </a:rPr>
              <a:t>S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cc3399"/>
                </a:solidFill>
                <a:latin typeface="Arial"/>
              </a:rPr>
              <a:t>MSS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x-section calculations and event generation. (i.e. hep/ph 07012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Projec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overcome the computational and management difficulties of complex process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GraceF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ace U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Feynman@Ho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-wide Public distributed computing for Feynman diag.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HAPP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gh Arithmetic Precision: beyond double-pr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llaborator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 topics for international co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81600" y="379440"/>
            <a:ext cx="399744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70440" y="2382840"/>
            <a:ext cx="2737080" cy="2260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52280" y="4191120"/>
            <a:ext cx="2592360" cy="2342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916360" y="4416480"/>
            <a:ext cx="2592360" cy="2441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28600" y="609480"/>
            <a:ext cx="3924360" cy="3659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5567400" y="4627440"/>
            <a:ext cx="2448000" cy="2116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8800" y="135000"/>
            <a:ext cx="85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ystematic R.C. to the Higgs production in ILC w/ G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27920" y="9111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e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038480" y="1125000"/>
            <a:ext cx="965160" cy="17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1981080"/>
            <a:ext cx="3594240" cy="584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438280"/>
            <a:ext cx="3268800" cy="2070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42640" y="3200400"/>
            <a:ext cx="1079640" cy="1081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581280"/>
            <a:ext cx="990720" cy="10000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84480" y="5670720"/>
            <a:ext cx="16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→</a:t>
            </a:r>
            <a:r>
              <a:rPr b="1" lang="el-GR" sz="1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νν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601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ami-Tateya (K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18200" y="404640"/>
            <a:ext cx="3241440" cy="165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5572" t="0" r="38028" b="11013"/>
          <a:stretch/>
        </p:blipFill>
        <p:spPr>
          <a:xfrm>
            <a:off x="685800" y="2209680"/>
            <a:ext cx="5867280" cy="3694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7400" y="333360"/>
            <a:ext cx="46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GRACE/SUSY-loop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8360" y="101448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atic calculation of R.C.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wo-bo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ay of chargi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ed with the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non-linear gauge in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09920" y="6248520"/>
            <a:ext cx="193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ami-Tateya (K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5867280"/>
            <a:ext cx="146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p/ph 070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24600" y="2475000"/>
            <a:ext cx="12718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4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6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4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SPA1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.C. to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hree-bod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cay of charginos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GRACE/SUSY-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5793" t="0" r="34866" b="10163"/>
          <a:stretch/>
        </p:blipFill>
        <p:spPr>
          <a:xfrm>
            <a:off x="609480" y="1600200"/>
            <a:ext cx="6248520" cy="4038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009920" y="6172200"/>
            <a:ext cx="193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ami-Tateya (K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21320" y="2209680"/>
            <a:ext cx="12718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4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5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6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4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SPA1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gino x-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276720" cy="3181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586320" y="3124080"/>
            <a:ext cx="5557680" cy="3164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733920" y="2838600"/>
            <a:ext cx="2743200" cy="285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438640" cy="258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rcRect l="0" t="0" r="54088" b="-14147"/>
          <a:stretch/>
        </p:blipFill>
        <p:spPr>
          <a:xfrm>
            <a:off x="1447920" y="4343400"/>
            <a:ext cx="1447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3962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procedures, Many Interfaces to ext. pro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GraceF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ject (Grace For U to L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/Memory perform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, clusters, Supercomputers,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Feynman@H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Arithmetic accura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yond Double Prec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HAPPY (High Arithmetic Precision Processing Yo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5334120"/>
            <a:ext cx="84582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61960" y="151920"/>
            <a:ext cx="4343400" cy="716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ce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-end package to 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Gr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mple individua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RACE code knowledge required to build integ/spr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 all actions from process selection to parameter dependent cross-section and even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to beamstrahlung and parton shower/had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all information on a single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stem wide massive produc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or distributed, private or public computing system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computer, cluster, GRID, Feynman@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Gr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, MS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level, 1-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proces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+-e--&gt;lepton-lepton-H or pp-&gt;4 j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rret-Gallix</cp:lastModifiedBy>
  <dcterms:modified xsi:type="dcterms:W3CDTF">2007-02-04T01:30:06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